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B6E-7799-402A-A5E5-EEA8E4A8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20F-6782-4445-9170-AD050BE5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D11-A470-4C7F-86A1-1F52978C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9B8-9540-436D-8FA9-49B16677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AD1-7CC6-47A8-AB02-D69F9CCC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071-BAA4-443D-BD8D-D31D17B2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D7D-E93D-4411-ABC0-6772671C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F93-7CD5-4089-9A42-9A54B2DC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D84-2E6B-48A4-9F86-7DC21DC8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AAB-97B4-4DEC-A7B2-208C7AAB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534-2B19-4659-940D-A2B8A4EB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271-BB0A-48B2-9CEB-9C248D62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062E-17A3-41CC-9475-B1B846E46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13440"/>
            <a:ext cx="5638680" cy="56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578" y="4509"/>
                </a:moveTo>
                <a:arcTo wR="10800" hR="10800" stAng="-2137677" swAng="4331740"/>
                <a:lnTo>
                  <a:pt x="10800" y="10800"/>
                </a:lnTo>
                <a:close/>
              </a:path>
              <a:path fill="none" w="21600" h="21600">
                <a:moveTo>
                  <a:pt x="19578" y="4509"/>
                </a:moveTo>
                <a:arcTo wR="10800" hR="10800" stAng="-2137677" swAng="4331740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629400" y="3048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3048120"/>
            <a:ext cx="7621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800240" y="3048120"/>
            <a:ext cx="2590920" cy="6937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2647800"/>
            <a:ext cx="1263600" cy="781200"/>
          </a:xfrm>
          <a:custGeom>
            <a:avLst/>
            <a:gdLst/>
            <a:ahLst/>
            <a:rect l="l" t="t" r="r" b="b"/>
            <a:pathLst>
              <a:path w="796" h="492">
                <a:moveTo>
                  <a:pt x="0" y="492"/>
                </a:moveTo>
                <a:lnTo>
                  <a:pt x="796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62440" y="2666880"/>
            <a:ext cx="2521080" cy="1800"/>
          </a:xfrm>
          <a:custGeom>
            <a:avLst/>
            <a:gdLst/>
            <a:ahLst/>
            <a:rect l="l" t="t" r="r" b="b"/>
            <a:pathLst>
              <a:path w="1588" h="1">
                <a:moveTo>
                  <a:pt x="1588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26668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000" y="143352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44200" y="143352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...se reflejará pasando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175248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5280" y="175248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0840" y="214776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Un rayo dirigido al fo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42320" y="214776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... se reflejará paralelo al eje óp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7200" y="4114800"/>
            <a:ext cx="66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tersección de las prolongaciones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51800" y="4800600"/>
            <a:ext cx="34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magen será virtual, derech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911320"/>
            <a:ext cx="2774880" cy="516240"/>
          </a:xfrm>
          <a:custGeom>
            <a:avLst/>
            <a:gdLst/>
            <a:ahLst/>
            <a:rect l="l" t="t" r="r" b="b"/>
            <a:pathLst>
              <a:path w="1748" h="325">
                <a:moveTo>
                  <a:pt x="0" y="325"/>
                </a:moveTo>
                <a:lnTo>
                  <a:pt x="174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391520" y="2662200"/>
            <a:ext cx="1371600" cy="368280"/>
          </a:xfrm>
          <a:prstGeom prst="line">
            <a:avLst/>
          </a:prstGeom>
          <a:ln w="9360">
            <a:solidFill>
              <a:srgbClr val="00cc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40760" y="2590920"/>
            <a:ext cx="1726920" cy="323640"/>
          </a:xfrm>
          <a:custGeom>
            <a:avLst/>
            <a:gdLst/>
            <a:ahLst/>
            <a:rect l="l" t="t" r="r" b="b"/>
            <a:pathLst>
              <a:path w="1088" h="204">
                <a:moveTo>
                  <a:pt x="0" y="204"/>
                </a:moveTo>
                <a:lnTo>
                  <a:pt x="1088" y="0"/>
                </a:lnTo>
              </a:path>
            </a:pathLst>
          </a:custGeom>
          <a:noFill/>
          <a:ln w="9360">
            <a:solidFill>
              <a:srgbClr val="3333c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15200" y="2590200"/>
            <a:ext cx="1600200" cy="75960"/>
          </a:xfrm>
          <a:custGeom>
            <a:avLst/>
            <a:gdLst/>
            <a:ahLst/>
            <a:rect l="l" t="t" r="r" b="b"/>
            <a:pathLst>
              <a:path w="2812" h="1">
                <a:moveTo>
                  <a:pt x="2812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913120"/>
            <a:ext cx="2774880" cy="515880"/>
          </a:xfrm>
          <a:custGeom>
            <a:avLst/>
            <a:gdLst/>
            <a:ahLst/>
            <a:rect l="l" t="t" r="r" b="b"/>
            <a:pathLst>
              <a:path w="1748" h="325">
                <a:moveTo>
                  <a:pt x="0" y="325"/>
                </a:moveTo>
                <a:lnTo>
                  <a:pt x="1748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2:46Z</dcterms:created>
  <dc:creator>Julio San Miguel</dc:creator>
  <dc:description/>
  <dc:language>en-US</dc:language>
  <cp:lastModifiedBy>Julio San Miguel</cp:lastModifiedBy>
  <dcterms:modified xsi:type="dcterms:W3CDTF">2005-04-24T18:03:41Z</dcterms:modified>
  <cp:revision>1</cp:revision>
  <dc:subject/>
  <dc:title>Sin título de diapositiva</dc:title>
</cp:coreProperties>
</file>