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ECLA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79F7-1D42-4733-A73A-F2DF4EE22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9126-78C6-4FAE-9E03-A6C1D057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5D06-0109-42DB-9EB3-B1BB7E900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A67F-0E5B-4412-B174-3FE07F3A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605C-58CC-456D-8BA0-9DEBBA1A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E488-3F9E-42EC-A172-849F1D2A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C282-A53D-4100-A2BF-FE454FB8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B386-3903-4975-AF1B-030FC659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5FAE-7346-46B1-B86A-5B213D7C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E5C8-6755-40F1-8FA1-0359902A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97C5-77DB-48D4-A1B2-B2AC397A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3B02-8C78-469B-B79C-8B4075CD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8371-6F82-4179-8F6C-D0E60A75123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audio" Target="../media/TECLA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1828800" y="342900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3"/>
          <p:cNvSpPr/>
          <p:nvPr/>
        </p:nvSpPr>
        <p:spPr>
          <a:xfrm flipV="1">
            <a:off x="6019920" y="32763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4"/>
          <p:cNvSpPr/>
          <p:nvPr/>
        </p:nvSpPr>
        <p:spPr>
          <a:xfrm flipV="1">
            <a:off x="3125880" y="283680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5"/>
          <p:cNvSpPr/>
          <p:nvPr/>
        </p:nvSpPr>
        <p:spPr>
          <a:xfrm flipV="1">
            <a:off x="3125880" y="2819520"/>
            <a:ext cx="1522440" cy="172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6"/>
          <p:cNvSpPr/>
          <p:nvPr/>
        </p:nvSpPr>
        <p:spPr>
          <a:xfrm>
            <a:off x="4648320" y="2819520"/>
            <a:ext cx="4343400" cy="19159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7"/>
          <p:cNvSpPr/>
          <p:nvPr/>
        </p:nvSpPr>
        <p:spPr>
          <a:xfrm>
            <a:off x="3125880" y="2836800"/>
            <a:ext cx="1522440" cy="592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845280" y="1509840"/>
            <a:ext cx="27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cc99"/>
                </a:solidFill>
                <a:latin typeface="Times New Roman"/>
              </a:rPr>
              <a:t>Un rayo paralelo al eje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4887000" y="1585800"/>
            <a:ext cx="351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cc99"/>
                </a:solidFill>
                <a:latin typeface="Times New Roman"/>
              </a:rPr>
              <a:t>... se refracta pasando por el foco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846720" y="1828800"/>
            <a:ext cx="332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Un rayo dirigido al centro de la lent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7020360" y="190512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... no se desv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2164320" y="4724280"/>
            <a:ext cx="420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 intersección de los rayos  se dará en el infin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4328640" y="3414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2973600" y="3581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6"/>
          <p:cNvSpPr/>
          <p:nvPr/>
        </p:nvSpPr>
        <p:spPr>
          <a:xfrm>
            <a:off x="4648320" y="2362320"/>
            <a:ext cx="0" cy="21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7"/>
          <p:cNvSpPr/>
          <p:nvPr/>
        </p:nvSpPr>
        <p:spPr>
          <a:xfrm flipV="1">
            <a:off x="3124080" y="3276360"/>
            <a:ext cx="1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6082200" y="311004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9"/>
          <p:cNvSpPr/>
          <p:nvPr/>
        </p:nvSpPr>
        <p:spPr>
          <a:xfrm>
            <a:off x="4648320" y="3429000"/>
            <a:ext cx="4100400" cy="1871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9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75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8225"/>
                            </p:stCondLst>
                            <p:childTnLst>
                              <p:par>
                                <p:cTn id="20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9725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75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3275"/>
                            </p:stCondLst>
                            <p:childTnLst>
                              <p:par>
                                <p:cTn id="28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4775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75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6750"/>
                            </p:stCondLst>
                            <p:childTnLst>
                              <p:par>
                                <p:cTn id="3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825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18:09:37Z</dcterms:created>
  <dc:creator>Julio San Miguel</dc:creator>
  <dc:description/>
  <dc:language>en-US</dc:language>
  <cp:lastModifiedBy>Julio San Miguel</cp:lastModifiedBy>
  <dcterms:modified xsi:type="dcterms:W3CDTF">2022-01-14T17:33:24Z</dcterms:modified>
  <cp:revision>2</cp:revision>
  <dc:subject/>
  <dc:title>Sin título de diapositiva</dc:title>
</cp:coreProperties>
</file>