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E49F-CD92-44C3-8D1F-7A483622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7B85-5A9F-440A-BAE6-890BCEB5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675-FBEB-4DF5-865A-1B416161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F317-7810-46BB-8520-D1DC1F67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6CF7-4B6C-4A16-BB78-4F67ED85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4EEE-E2A3-44F7-81EE-D21C82F4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3FAD-9F1F-4659-B298-2D08EC1F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EC68-1049-41A8-B6B4-A6E30DA8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FC9D-DF8F-4CDA-B722-42140D9B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872F-B915-4D44-954F-D0B6676D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C81A-81B7-4D8E-83F2-9A184416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4F1B-5160-4BF6-8599-1392BA08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D58C-08D5-48F6-AF76-FA930C3A2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34290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60199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2438280" y="28191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2819520"/>
            <a:ext cx="221004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2819520"/>
            <a:ext cx="4343400" cy="1915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38280" y="2819520"/>
            <a:ext cx="221004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8381880" y="3429000"/>
            <a:ext cx="1800" cy="1023840"/>
          </a:xfrm>
          <a:custGeom>
            <a:avLst/>
            <a:gdLst/>
            <a:ahLst/>
            <a:rect l="l" t="t" r="r" b="b"/>
            <a:pathLst>
              <a:path w="1" h="645">
                <a:moveTo>
                  <a:pt x="0" y="0"/>
                </a:moveTo>
                <a:lnTo>
                  <a:pt x="0" y="64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280" y="150984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87000" y="1585800"/>
            <a:ext cx="351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... se refracta pasando por el foco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6720" y="1828800"/>
            <a:ext cx="332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 rayo dirigido al centro de la lent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20360" y="190512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.. no se desv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44880" y="4724280"/>
            <a:ext cx="48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ntersección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3600" y="3581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23623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327636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82200" y="31100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3429000"/>
            <a:ext cx="4267080" cy="1177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00600" y="5167440"/>
            <a:ext cx="315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magen es real, invertida y may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8:09:37Z</dcterms:created>
  <dc:creator>Julio San Miguel</dc:creator>
  <dc:description/>
  <dc:language>en-US</dc:language>
  <cp:lastModifiedBy>Julio San Miguel</cp:lastModifiedBy>
  <dcterms:modified xsi:type="dcterms:W3CDTF">2005-04-24T18:10:19Z</dcterms:modified>
  <cp:revision>1</cp:revision>
  <dc:subject/>
  <dc:title>Sin título de diapositiva</dc:title>
</cp:coreProperties>
</file>