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A92-55D1-4D25-B601-63AF5361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855-B49E-4C86-9821-EF85555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106-D466-42E3-8984-3C8C8EC6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DEA-6A17-44AC-A9C9-53A67323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78F-A8F1-4232-AA0F-55E57A4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60B-FA55-442F-8556-8F2A5B1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0CF-4F84-49D9-84FC-287EB94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14B-1D85-4C52-9FA1-AD4EF15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0FC-385D-4CD7-AF60-CADE061D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411-B1F2-4FA3-B2A8-FE186A8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447-64D7-40F4-99E1-3E6F8C8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CF2-5E1D-457B-B217-497C1EF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1955-6956-41BA-8D01-8539E74FA66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979000" y="3403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1473120" y="34178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2 Conector recto de flecha"/>
          <p:cNvCxnSpPr/>
          <p:nvPr/>
        </p:nvCxnSpPr>
        <p:spPr>
          <a:xfrm>
            <a:off x="685440" y="3881160"/>
            <a:ext cx="3963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" name="26 Conector recto de flecha"/>
          <p:cNvCxnSpPr/>
          <p:nvPr/>
        </p:nvCxnSpPr>
        <p:spPr>
          <a:xfrm flipV="1">
            <a:off x="4648320" y="3766320"/>
            <a:ext cx="1372320" cy="10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" name="27 Conector recto de flecha"/>
          <p:cNvCxnSpPr/>
          <p:nvPr/>
        </p:nvCxnSpPr>
        <p:spPr>
          <a:xfrm>
            <a:off x="4648320" y="3881160"/>
            <a:ext cx="21405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" name="5 CuadroTexto"/>
          <p:cNvSpPr/>
          <p:nvPr/>
        </p:nvSpPr>
        <p:spPr>
          <a:xfrm>
            <a:off x="2436120" y="38037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31 CuadroTexto"/>
          <p:cNvSpPr/>
          <p:nvPr/>
        </p:nvSpPr>
        <p:spPr>
          <a:xfrm>
            <a:off x="5068080" y="3494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32 CuadroTexto"/>
          <p:cNvSpPr/>
          <p:nvPr/>
        </p:nvSpPr>
        <p:spPr>
          <a:xfrm>
            <a:off x="5446080" y="3876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725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775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75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125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24-01-06T18:55:58Z</dcterms:modified>
  <cp:revision>8</cp:revision>
  <dc:subject/>
  <dc:title>Sin título de diapositiva</dc:title>
</cp:coreProperties>
</file>