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15C-E4C8-4D64-A9F9-91F10D8A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D18-1FC4-44B3-B960-FAA1A425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D98-B65B-4D88-A5F1-D5F759D5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089-293B-4388-A36C-A01AF54D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3C1-88C3-40D1-8AC5-0C618EA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4CA-DCCA-4191-B965-0B0248D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D46-AAD3-470C-832D-B132F057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61C-234D-4832-8A91-6E872AA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149-6CA8-4E5A-AF02-30F60DBF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0E4-C615-4547-A0D9-4B63E537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8EA-CDAB-44B1-86D1-4432F94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ED0-E686-451B-B369-A95B01A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8D43-7D8E-42BB-9B48-81CBC005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3800"/>
            <a:ext cx="5638680" cy="563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2" y="4204"/>
                </a:moveTo>
                <a:arcTo wR="10800" hR="10800" stAng="-2258385" swAng="4325515"/>
                <a:lnTo>
                  <a:pt x="10800" y="10800"/>
                </a:lnTo>
                <a:close/>
              </a:path>
              <a:path fill="none" w="21600" h="21600">
                <a:moveTo>
                  <a:pt x="19352" y="4204"/>
                </a:moveTo>
                <a:arcTo wR="10800" hR="10800" stAng="-2258385" swAng="4325515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3048120"/>
            <a:ext cx="2133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124080" y="3048120"/>
            <a:ext cx="426744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1280" y="3048120"/>
            <a:ext cx="685800" cy="38088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3048120"/>
            <a:ext cx="2057400" cy="1066680"/>
          </a:xfrm>
          <a:custGeom>
            <a:avLst/>
            <a:gdLst/>
            <a:ahLst/>
            <a:rect l="l" t="t" r="r" b="b"/>
            <a:pathLst>
              <a:path w="2922" h="552">
                <a:moveTo>
                  <a:pt x="0" y="0"/>
                </a:moveTo>
                <a:lnTo>
                  <a:pt x="2922" y="5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895480" y="4038480"/>
            <a:ext cx="4410360" cy="74880"/>
          </a:xfrm>
          <a:custGeom>
            <a:avLst/>
            <a:gdLst/>
            <a:ahLst/>
            <a:rect l="l" t="t" r="r" b="b"/>
            <a:pathLst>
              <a:path w="1674" h="1">
                <a:moveTo>
                  <a:pt x="167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280" y="129528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2800" y="1295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99"/>
                </a:solidFill>
                <a:latin typeface="Times New Roman"/>
              </a:rPr>
              <a:t>... se reflejará pasando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4560" y="161460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83880" y="161460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3120" y="198108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0920" y="198108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2240" y="457200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257800" y="2057400"/>
            <a:ext cx="175248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23360" y="2057400"/>
            <a:ext cx="3886200" cy="22096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9480" y="5181480"/>
            <a:ext cx="33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magen será real, invertid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3048120"/>
            <a:ext cx="228600" cy="3808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276720"/>
            <a:ext cx="3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3400" y="2881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8880" y="41148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200400" y="3428280"/>
            <a:ext cx="457200" cy="6858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092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3080" y="30924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42:36Z</dcterms:created>
  <dc:creator>fisica</dc:creator>
  <dc:description/>
  <dc:language>en-US</dc:language>
  <cp:lastModifiedBy>fisica</cp:lastModifiedBy>
  <dcterms:modified xsi:type="dcterms:W3CDTF">2005-04-25T10:44:59Z</dcterms:modified>
  <cp:revision>1</cp:revision>
  <dc:subject/>
  <dc:title>Sin título de diapositiva</dc:title>
</cp:coreProperties>
</file>