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7B8E-C585-4AB2-8CB5-0E99E284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7C5F-50BC-499E-B707-D3E8196B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48D5-0DB8-467F-8F5C-488591AD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5A49-43D5-445D-B800-91700F3C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98DD-B777-4D5E-8EFA-649919F9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831E-60CC-4194-894B-5EDDB419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FA31-5CDC-48A9-AC8F-BE8283C1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1935-BEEA-4BF1-9BE1-193F1CC8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FFCD-63DF-4BC3-844E-825C49DE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01E2-CCEA-4FD9-9722-7253F385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60A9-AC91-4932-B492-11E75635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2B90-F530-49CC-878D-867D3788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DAE7-8E2B-41D9-B9ED-46074823D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34290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72040" y="3286080"/>
            <a:ext cx="1800" cy="152280"/>
          </a:xfrm>
          <a:custGeom>
            <a:avLst/>
            <a:gdLst/>
            <a:ahLst/>
            <a:rect l="l" t="t" r="r" b="b"/>
            <a:pathLst>
              <a:path w="1" h="96">
                <a:moveTo>
                  <a:pt x="0" y="96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4572000" y="2819160"/>
            <a:ext cx="144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2819520"/>
            <a:ext cx="2743200" cy="144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2819520"/>
            <a:ext cx="3886200" cy="1752480"/>
          </a:xfrm>
          <a:custGeom>
            <a:avLst/>
            <a:gdLst/>
            <a:ahLst/>
            <a:rect l="l" t="t" r="r" b="b"/>
            <a:pathLst>
              <a:path w="2448" h="1104">
                <a:moveTo>
                  <a:pt x="2448" y="0"/>
                </a:moveTo>
                <a:lnTo>
                  <a:pt x="0" y="1104"/>
                </a:lnTo>
              </a:path>
            </a:pathLst>
          </a:custGeom>
          <a:noFill/>
          <a:ln w="936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838600"/>
            <a:ext cx="1440" cy="3409920"/>
          </a:xfrm>
          <a:custGeom>
            <a:avLst/>
            <a:gdLst/>
            <a:ahLst/>
            <a:rect l="l" t="t" r="r" b="b"/>
            <a:pathLst>
              <a:path w="1" h="2148">
                <a:moveTo>
                  <a:pt x="0" y="0"/>
                </a:moveTo>
                <a:lnTo>
                  <a:pt x="0" y="2148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2817720"/>
            <a:ext cx="7920" cy="3430800"/>
          </a:xfrm>
          <a:custGeom>
            <a:avLst/>
            <a:gdLst/>
            <a:ahLst/>
            <a:rect l="l" t="t" r="r" b="b"/>
            <a:pathLst>
              <a:path w="5" h="2161">
                <a:moveTo>
                  <a:pt x="0" y="2161"/>
                </a:moveTo>
                <a:lnTo>
                  <a:pt x="5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3429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819520"/>
            <a:ext cx="2762280" cy="1209600"/>
          </a:xfrm>
          <a:custGeom>
            <a:avLst/>
            <a:gdLst/>
            <a:ahLst/>
            <a:rect l="l" t="t" r="r" b="b"/>
            <a:pathLst>
              <a:path w="1740" h="762">
                <a:moveTo>
                  <a:pt x="0" y="0"/>
                </a:moveTo>
                <a:lnTo>
                  <a:pt x="1740" y="762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4038480"/>
            <a:ext cx="3590640" cy="76320"/>
          </a:xfrm>
          <a:custGeom>
            <a:avLst/>
            <a:gdLst/>
            <a:ahLst/>
            <a:rect l="l" t="t" r="r" b="b"/>
            <a:pathLst>
              <a:path w="1734" h="1">
                <a:moveTo>
                  <a:pt x="1734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34290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614520"/>
            <a:ext cx="5638680" cy="563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75" y="4366"/>
                </a:moveTo>
                <a:arcTo wR="10800" hR="10800" stAng="-2193810" swAng="4382799"/>
                <a:lnTo>
                  <a:pt x="10800" y="10800"/>
                </a:lnTo>
                <a:close/>
              </a:path>
              <a:path fill="none" w="21600" h="21600">
                <a:moveTo>
                  <a:pt x="19475" y="4366"/>
                </a:moveTo>
                <a:arcTo wR="10800" hR="10800" stAng="-2193810" swAng="4382799"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50200" y="158580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94880" y="158580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... se reflejará pasando por el fo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9480" y="1905120"/>
            <a:ext cx="30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 rayo dirigido al centro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05960" y="1905120"/>
            <a:ext cx="39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.. se reflejará volviendo por el mismo cam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8040" y="2286000"/>
            <a:ext cx="22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Un rayo dirigido al fo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93000" y="2209680"/>
            <a:ext cx="30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... se reflejará paralelo al eje óp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44880" y="4495680"/>
            <a:ext cx="48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ntersección de los rayos dará la posición de la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58560" y="4952880"/>
            <a:ext cx="31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magen será real, invertida e ig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76360" y="3186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53240" y="2957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53080" y="3186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7:59:22Z</dcterms:created>
  <dc:creator>Julio San Miguel</dc:creator>
  <dc:description/>
  <dc:language>en-US</dc:language>
  <cp:lastModifiedBy>Julio San Miguel</cp:lastModifiedBy>
  <dcterms:modified xsi:type="dcterms:W3CDTF">2005-04-24T18:01:16Z</dcterms:modified>
  <cp:revision>1</cp:revision>
  <dc:subject/>
  <dc:title>Sin título de diapositiva</dc:title>
</cp:coreProperties>
</file>