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767-670F-4267-942C-4E880E5D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5B9-19AA-4974-8EBB-C3345C2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AB2-D3B5-421C-A67E-F7709EC0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54B-526A-4432-82C9-F18ABB6E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BDC-B882-4F68-9A98-C635D223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CD1-E70D-4374-BAE4-2176C32C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F51-0546-4783-A75C-751F8E48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72D-C68C-4903-9D54-507847B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501-3320-4ACF-96D4-2C9D4841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C32-EBDD-4A5E-B0F3-CA25048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6BF-30F9-4319-ADA4-F4142B3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66E-C385-4ACB-BF34-23EBDE8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1D0B-A48E-41E1-B473-A4DEE670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7339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819520"/>
            <a:ext cx="9144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1981080" y="1676520"/>
            <a:ext cx="77760" cy="175248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7621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400" y="83808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0400" y="11430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157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40160" y="4586400"/>
            <a:ext cx="64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 prolonga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429000"/>
            <a:ext cx="3124080" cy="2082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447920"/>
            <a:ext cx="2057400" cy="13716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914400"/>
            <a:ext cx="4343400" cy="19162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9760" y="495288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virtual, derech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10:25Z</dcterms:created>
  <dc:creator>Julio San Miguel</dc:creator>
  <dc:description/>
  <dc:language>en-US</dc:language>
  <cp:lastModifiedBy>Julio San Miguel</cp:lastModifiedBy>
  <dcterms:modified xsi:type="dcterms:W3CDTF">2005-04-24T18:10:53Z</dcterms:modified>
  <cp:revision>1</cp:revision>
  <dc:subject/>
  <dc:title>Sin título de diapositiva</dc:title>
</cp:coreProperties>
</file>