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B06-DB73-43C8-BC1B-88904C1B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621-4F99-479A-A0D1-A0337B87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25E-B72A-4B91-B82F-FC9E4095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D93-7DB3-4E86-8199-6A7DABA1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0AB-E662-4A84-AE88-363B5183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F47-FBFD-4D08-8440-DF9963A0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0BD-09EC-42ED-AEF9-8730EB0A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8CB-B9B5-41C2-A1AC-48BB35FA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599-AD7D-48EF-8A81-3060CB41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BA8-AB61-456F-88A3-B9642A5E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868-C4F3-4AAF-8CF5-F53C194C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3E5-3A37-442F-A1CB-D5EA23B1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968-8EA2-4C8A-89BD-738303F92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3429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4" idx="0"/>
          </p:cNvCxnSpPr>
          <p:nvPr/>
        </p:nvCxnSpPr>
        <p:spPr>
          <a:xfrm flipH="1" flipV="1">
            <a:off x="4571640" y="3123360"/>
            <a:ext cx="1905840" cy="3060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 flipH="1" flipV="1">
            <a:off x="2362320" y="2971440"/>
            <a:ext cx="220968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4572000" y="3123720"/>
            <a:ext cx="4572000" cy="304920"/>
          </a:xfrm>
          <a:prstGeom prst="line">
            <a:avLst/>
          </a:prstGeom>
          <a:ln w="9360">
            <a:solidFill>
              <a:srgbClr val="ff33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9154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572000" y="3429000"/>
            <a:ext cx="19051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666880" y="3429000"/>
            <a:ext cx="19051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571640" y="3429000"/>
            <a:ext cx="4419720" cy="0"/>
          </a:xfrm>
          <a:prstGeom prst="line">
            <a:avLst/>
          </a:prstGeom>
          <a:ln w="9360">
            <a:solidFill>
              <a:srgbClr val="00cc99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2240" y="1600200"/>
            <a:ext cx="374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n rayo saliendo del punto O, formando un pequeño ángulo de incidencia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44792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... atravesará la superficie de separación acercándose a la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240" y="4267080"/>
            <a:ext cx="374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Otro rayo saliendo del punto O, perpendicular a la superfici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286000"/>
            <a:ext cx="344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ara el ojo parecerá proveniente de la prolong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449568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no se desviar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5029200"/>
            <a:ext cx="480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ambas prolon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s dará el punto O’ de donde parecen provenir los ray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86400" y="34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749080" y="341460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jo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1428840" cy="2086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3505320" y="31240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43320" y="342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54120" y="2743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3429000"/>
            <a:ext cx="4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43400" y="3338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3429000"/>
            <a:ext cx="4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7339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9:08:20Z</dcterms:created>
  <dc:creator>Julio San Miguel</dc:creator>
  <dc:description/>
  <dc:language>en-US</dc:language>
  <cp:lastModifiedBy>fisica</cp:lastModifiedBy>
  <dcterms:modified xsi:type="dcterms:W3CDTF">2005-04-26T10:55:50Z</dcterms:modified>
  <cp:revision>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Compression">
    <vt:r8>100</vt:r8>
  </property>
  <property fmtid="{D5CDD505-2E9C-101B-9397-08002B2CF9AE}" pid="4" name="DownloadIEButton">
    <vt:bool>1</vt:bool>
  </property>
  <property fmtid="{D5CDD505-2E9C-101B-9397-08002B2CF9AE}" pid="5" name="DownloadOriginal">
    <vt:bool>1</vt:bool>
  </property>
  <property fmtid="{D5CDD505-2E9C-101B-9397-08002B2CF9AE}" pid="6" name="GraphicType">
    <vt:r8>3</vt:r8>
  </property>
  <property fmtid="{D5CDD505-2E9C-101B-9397-08002B2CF9AE}" pid="7" name="HomePage">
    <vt:lpwstr/>
  </property>
  <property fmtid="{D5CDD505-2E9C-101B-9397-08002B2CF9AE}" pid="8" name="LinkColor">
    <vt:r8>16711782</vt:r8>
  </property>
  <property fmtid="{D5CDD505-2E9C-101B-9397-08002B2CF9AE}" pid="9" name="MailAddress">
    <vt:lpwstr/>
  </property>
  <property fmtid="{D5CDD505-2E9C-101B-9397-08002B2CF9AE}" pid="10" name="Other">
    <vt:lpwstr/>
  </property>
  <property fmtid="{D5CDD505-2E9C-101B-9397-08002B2CF9AE}" pid="11" name="ScreenSize">
    <vt:r8>2</vt:r8>
  </property>
  <property fmtid="{D5CDD505-2E9C-101B-9397-08002B2CF9AE}" pid="12" name="ScreenUsage">
    <vt:r8>1</vt:r8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UseBrowserColor">
    <vt:bool>1</vt:bool>
  </property>
  <property fmtid="{D5CDD505-2E9C-101B-9397-08002B2CF9AE}" pid="16" name="VisitedColor">
    <vt:r8>10040268</vt:r8>
  </property>
</Properties>
</file>