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EC05-E7CA-4F7E-BCFA-7CDFF63A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8470-DA47-4EA0-A703-128A1A25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D9A3-DE6F-4A17-958B-62CF12F36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A92A-4A6E-461D-973D-5C88F30D7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D8F1-1DDF-4B85-B15A-4E9D5B93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6765-7797-41C7-B335-7AA9B70E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4F02-E33F-4E4A-8044-DB8A0943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7716-2ADE-41CE-9D7F-2BF35E92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EC2A-BC7F-44F7-9D99-393B8DB2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5653-08E7-4A3A-A1DC-00B1261B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A6EB-E67B-448F-A840-500CC9E9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FDF0-6BD1-430A-942B-24380988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F5A8-D393-49BC-A839-D9C4ECE85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429000"/>
            <a:ext cx="792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60199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1905120" y="281916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2819520"/>
            <a:ext cx="27432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48320" y="2819520"/>
            <a:ext cx="4343400" cy="19159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2819520"/>
            <a:ext cx="274320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7448400" y="3429000"/>
            <a:ext cx="1800" cy="623880"/>
          </a:xfrm>
          <a:custGeom>
            <a:avLst/>
            <a:gdLst/>
            <a:ahLst/>
            <a:rect l="l" t="t" r="r" b="b"/>
            <a:pathLst>
              <a:path w="1" h="393">
                <a:moveTo>
                  <a:pt x="0" y="0"/>
                </a:moveTo>
                <a:lnTo>
                  <a:pt x="0" y="39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93000" y="158580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Un rayo paralelo al eje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58400" y="1585800"/>
            <a:ext cx="351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... se refracta pasando por el foco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4080" y="1905120"/>
            <a:ext cx="332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Un rayo dirigido al centro de la lent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91760" y="190512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... no se desv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8440" y="4738680"/>
            <a:ext cx="48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ntersección de los rayos dará la posición de la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8640" y="3414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3600" y="3581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2362320"/>
            <a:ext cx="0" cy="21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2767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82200" y="311004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9051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7960" y="365760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86080" y="5105520"/>
            <a:ext cx="303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magen es real, invertida e ig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3429000"/>
            <a:ext cx="3429000" cy="7621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18:08:53Z</dcterms:created>
  <dc:creator>Julio San Miguel</dc:creator>
  <dc:description/>
  <dc:language>en-US</dc:language>
  <cp:lastModifiedBy>Julio San Miguel</cp:lastModifiedBy>
  <dcterms:modified xsi:type="dcterms:W3CDTF">2005-04-24T18:09:29Z</dcterms:modified>
  <cp:revision>1</cp:revision>
  <dc:subject/>
  <dc:title>Sin título de diapositiva</dc:title>
</cp:coreProperties>
</file>