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982D-1EF8-451D-813A-F66DF482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FCB-3870-4E2B-86E1-22D01A6C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D30-9DA2-4C8C-A689-7E3F037C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F632-7426-457A-9932-7D0118E2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F0D-53C2-442D-AE83-5D134036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525-6484-4F81-9A54-C282BE70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9F6-D9F3-49D0-B93A-29637C83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22E-FDA4-4E39-84DC-BC76D836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41A-198F-4896-946F-3A7C9CE1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43E-ED54-4E58-81F4-57D83B13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293-4284-44E3-9076-3D040708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45A-80AD-4C98-98DD-EC85B464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2D57-1E0B-4291-9612-28AAD6E1B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42900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6019920" y="32763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8580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819520"/>
            <a:ext cx="39625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819520"/>
            <a:ext cx="4343400" cy="1915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819520"/>
            <a:ext cx="396252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6781680" y="3429000"/>
            <a:ext cx="77760" cy="338040"/>
          </a:xfrm>
          <a:custGeom>
            <a:avLst/>
            <a:gdLst/>
            <a:ahLst/>
            <a:rect l="l" t="t" r="r" b="b"/>
            <a:pathLst>
              <a:path w="1" h="645">
                <a:moveTo>
                  <a:pt x="0" y="0"/>
                </a:moveTo>
                <a:lnTo>
                  <a:pt x="0" y="64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2920" y="1509840"/>
            <a:ext cx="44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Por semejanza entre el triángulo ABC y el A’B’C 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3600" y="3429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124080" y="327636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82200" y="3110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3429000"/>
            <a:ext cx="396216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4960" y="3429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4600" y="2438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3440" y="2438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31560" y="309240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4880" y="38098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3809880"/>
            <a:ext cx="3886200" cy="337320"/>
            <a:chOff x="685800" y="3809880"/>
            <a:chExt cx="3886200" cy="337320"/>
          </a:xfrm>
        </p:grpSpPr>
        <p:sp>
          <p:nvSpPr>
            <p:cNvPr id="61" name=""/>
            <p:cNvSpPr/>
            <p:nvPr/>
          </p:nvSpPr>
          <p:spPr>
            <a:xfrm>
              <a:off x="685800" y="388620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64480" y="3809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30040" y="2819160"/>
            <a:ext cx="303480" cy="609480"/>
            <a:chOff x="230040" y="2819160"/>
            <a:chExt cx="303480" cy="609480"/>
          </a:xfrm>
        </p:grpSpPr>
        <p:sp>
          <p:nvSpPr>
            <p:cNvPr id="64" name=""/>
            <p:cNvSpPr/>
            <p:nvPr/>
          </p:nvSpPr>
          <p:spPr>
            <a:xfrm flipV="1">
              <a:off x="533520" y="2819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0040" y="2895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800600" y="3733920"/>
            <a:ext cx="1143000" cy="337320"/>
            <a:chOff x="4800600" y="3733920"/>
            <a:chExt cx="1143000" cy="337320"/>
          </a:xfrm>
        </p:grpSpPr>
        <p:sp>
          <p:nvSpPr>
            <p:cNvPr id="67" name=""/>
            <p:cNvSpPr/>
            <p:nvPr/>
          </p:nvSpPr>
          <p:spPr>
            <a:xfrm>
              <a:off x="480060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84360" y="3733920"/>
              <a:ext cx="31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f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086600" y="3428640"/>
            <a:ext cx="495720" cy="337680"/>
            <a:chOff x="7086600" y="3428640"/>
            <a:chExt cx="495720" cy="337680"/>
          </a:xfrm>
        </p:grpSpPr>
        <p:sp>
          <p:nvSpPr>
            <p:cNvPr id="70" name=""/>
            <p:cNvSpPr/>
            <p:nvPr/>
          </p:nvSpPr>
          <p:spPr>
            <a:xfrm flipV="1">
              <a:off x="7086600" y="3428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5440" y="342900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y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724280" y="4191120"/>
            <a:ext cx="2057400" cy="489600"/>
            <a:chOff x="4724280" y="4191120"/>
            <a:chExt cx="2057400" cy="489600"/>
          </a:xfrm>
        </p:grpSpPr>
        <p:sp>
          <p:nvSpPr>
            <p:cNvPr id="73" name=""/>
            <p:cNvSpPr/>
            <p:nvPr/>
          </p:nvSpPr>
          <p:spPr>
            <a:xfrm>
              <a:off x="4724280" y="41911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41200" y="4343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688000" y="1447920"/>
                <a:ext cx="1120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622080" y="4952880"/>
            <a:ext cx="455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or semejanza entre el triángulo CGF’ y el A’B’F’ 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715000" y="4800600"/>
                <a:ext cx="990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288200" y="1428840"/>
                <a:ext cx="6620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010280" y="4724280"/>
                <a:ext cx="9907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715000" y="5410080"/>
                <a:ext cx="24382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'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'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'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'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'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8:02:39Z</dcterms:created>
  <dc:creator>Julio San Miguel</dc:creator>
  <dc:description/>
  <dc:language>en-US</dc:language>
  <cp:lastModifiedBy>Julio San Miguel</cp:lastModifiedBy>
  <dcterms:modified xsi:type="dcterms:W3CDTF">2005-04-19T22:25:11Z</dcterms:modified>
  <cp:revision>1</cp:revision>
  <dc:subject/>
  <dc:title>Sin título de diapositiva</dc:title>
</cp:coreProperties>
</file>