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8AE-CD66-4289-BA2A-5FF6726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C09-9DC6-4924-AF4A-EAA582D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7CE-EC4B-4843-8B41-576E1878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024-78BF-4CE2-B06C-038CFC30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647-8050-4858-A0DD-BB0FE245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BB7-6B1A-4DBC-8153-DB6E2F80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9A8-81DF-4CD7-AD98-3901136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FFE-D0D8-4B20-B0D8-E4ABD963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EAD-26F2-4ADC-857D-8AFE2BA8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3CF-0F6E-4F98-A2FB-9ED65DD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EE9-8732-4A9F-AC9B-22DF372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68F-F149-4560-9C86-C079399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DC16-6EEE-4618-9647-616415097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45720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428640" y="2819520"/>
            <a:ext cx="3886200" cy="182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819520"/>
            <a:ext cx="449568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743200" y="2819160"/>
            <a:ext cx="449568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819520"/>
            <a:ext cx="4638600" cy="87624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4920" y="3714840"/>
            <a:ext cx="2657520" cy="144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4479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0640" y="144792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90512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1720" y="190512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2860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78760" y="228600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2084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98080" y="525780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7:57:37Z</dcterms:created>
  <dc:creator>Julio San Miguel</dc:creator>
  <dc:description/>
  <dc:language>en-US</dc:language>
  <cp:lastModifiedBy>Julio San Miguel</cp:lastModifiedBy>
  <dcterms:modified xsi:type="dcterms:W3CDTF">2005-04-24T17:59:11Z</dcterms:modified>
  <cp:revision>1</cp:revision>
  <dc:subject/>
  <dc:title>Sin título de diapositiva</dc:title>
</cp:coreProperties>
</file>