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3E9-888E-4B2B-AA85-3A1175A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900-A29F-48E8-A4C7-C31C5D0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9CF-EAAC-477B-A360-A3046FF1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FA8-FB19-46FD-90D8-645E56C4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6E2-4BB1-46B7-B48C-189ABC60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EAC-3882-4A32-B063-C3455F0B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340-A95F-4CBB-B8D5-7B03A1D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280-35EA-4E79-8DBF-14F166BC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143-2186-4458-9968-A0552AA5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D9-0BB4-4142-A778-70F6C1E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38A-AF3F-404C-9B0A-F539908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D37-AEF0-4C9F-875D-579546C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EBFF-55F2-403F-B95D-8F0637B9E6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09480" y="3414600"/>
            <a:ext cx="4038840" cy="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75080" y="150984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Los rayos llegarán paralelos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388960" y="4648320"/>
            <a:ext cx="36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será en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648320" y="3429000"/>
            <a:ext cx="3886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>
            <a:off x="684360" y="4076640"/>
            <a:ext cx="3962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2165400"/>
            <a:ext cx="4343400" cy="191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425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5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7575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9075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575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75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8:07Z</dcterms:created>
  <dc:creator>Julio San Miguel</dc:creator>
  <dc:description/>
  <dc:language>en-US</dc:language>
  <cp:lastModifiedBy>Julio San Miguel</cp:lastModifiedBy>
  <dcterms:modified xsi:type="dcterms:W3CDTF">2022-01-14T17:41:55Z</dcterms:modified>
  <cp:revision>2</cp:revision>
  <dc:subject/>
  <dc:title>Sin título de diapositiva</dc:title>
</cp:coreProperties>
</file>