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3218-BA15-4AFE-A551-034222CF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A3EE-DFE3-4042-8A9A-92B0ADE1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ABFA-14FE-40EF-8A73-CBA82D8A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389-5144-4EB3-A53B-20EDEEA4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62CC-E022-437E-855C-0D0D491D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AD7-1CF5-4043-BEE6-125C339A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F8D4-A819-44AC-B0A4-FA66E207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ADF-0E3B-4378-89FC-6F8B7738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ACA-2A94-43B7-8333-EAC5E62E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FD0A-1EA7-4AB3-A7C4-4D8AA044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85E-C8AF-4146-A634-6F32DBAB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5DF-A378-4732-A71D-F20CA223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30E8-6301-4BD3-89C2-1C23D9AE0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613800"/>
            <a:ext cx="5638680" cy="563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52" y="4204"/>
                </a:moveTo>
                <a:arcTo wR="10800" hR="10800" stAng="-2258385" swAng="4325515"/>
                <a:lnTo>
                  <a:pt x="10800" y="10800"/>
                </a:lnTo>
                <a:close/>
              </a:path>
              <a:path fill="none" w="21600" h="21600">
                <a:moveTo>
                  <a:pt x="19352" y="4204"/>
                </a:moveTo>
                <a:arcTo wR="10800" hR="10800" stAng="-2258385" swAng="4325515"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4290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019920" y="327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5257800" y="30481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3048120"/>
            <a:ext cx="2133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124080" y="3048120"/>
            <a:ext cx="426744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571280" y="3048120"/>
            <a:ext cx="685800" cy="38088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429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3048120"/>
            <a:ext cx="2057400" cy="1066680"/>
          </a:xfrm>
          <a:custGeom>
            <a:avLst/>
            <a:gdLst/>
            <a:ahLst/>
            <a:rect l="l" t="t" r="r" b="b"/>
            <a:pathLst>
              <a:path w="2922" h="552">
                <a:moveTo>
                  <a:pt x="0" y="0"/>
                </a:moveTo>
                <a:lnTo>
                  <a:pt x="2922" y="552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895480" y="4038480"/>
            <a:ext cx="4410360" cy="74880"/>
          </a:xfrm>
          <a:custGeom>
            <a:avLst/>
            <a:gdLst/>
            <a:ahLst/>
            <a:rect l="l" t="t" r="r" b="b"/>
            <a:pathLst>
              <a:path w="1674" h="1">
                <a:moveTo>
                  <a:pt x="1674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429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5280" y="129528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72800" y="129528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 se reflejará pasando por el fo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4560" y="161460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83880" y="1614600"/>
            <a:ext cx="39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 se reflejará volviendo por el mismo cam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3120" y="1981080"/>
            <a:ext cx="22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Un rayo dirigido al fo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70920" y="198108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... se reflejará paralelo al eje óp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92240" y="4572000"/>
            <a:ext cx="48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29560" y="2957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53080" y="3186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257800" y="2057400"/>
            <a:ext cx="1752480" cy="990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123360" y="2057400"/>
            <a:ext cx="3886200" cy="220968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69480" y="5181480"/>
            <a:ext cx="33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magen será real, invertida y may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8:01:22Z</dcterms:created>
  <dc:creator>Julio San Miguel</dc:creator>
  <dc:description/>
  <dc:language>en-US</dc:language>
  <cp:lastModifiedBy>Julio San Miguel</cp:lastModifiedBy>
  <dcterms:modified xsi:type="dcterms:W3CDTF">2005-04-24T18:02:04Z</dcterms:modified>
  <cp:revision>1</cp:revision>
  <dc:subject/>
  <dc:title>Sin título de diapositiva</dc:title>
</cp:coreProperties>
</file>