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TECLA.WAV" ContentType="audio/x-wav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3C273-9C26-442F-BF10-657AA0CBF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1EAA1-BEEE-4316-8A22-9B19BB2CE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46EF4-6F73-4F65-92FE-3316E37A1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53413-A811-4B3F-9536-C7C71BAC3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57FEC-E74B-4A3A-96F9-63CD12EBD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5CBC2-1A3B-4CA5-8F80-E65DEE99B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BB67B-A1A4-449D-8BA4-820F4B5AC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DF972-FDEF-4D44-9437-EBE863989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FA6EC-3B8F-42C5-93D7-4D0110379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779D3-05F4-4017-8EEB-21794D836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D7C16-4148-473E-B9D3-0D0349BFD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3A33D-1907-46E0-AC0D-FDF9C593A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0100A-3248-49DC-B219-59008D226ABD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TECLA.WAV"/><Relationship Id="rId2" Type="http://schemas.openxmlformats.org/officeDocument/2006/relationships/audio" Target="../media/TECLA.WAV"/><Relationship Id="rId3" Type="http://schemas.openxmlformats.org/officeDocument/2006/relationships/audio" Target="../media/TECLA.WAV"/><Relationship Id="rId4" Type="http://schemas.openxmlformats.org/officeDocument/2006/relationships/audio" Target="../media/TECLA.WAV"/><Relationship Id="rId5" Type="http://schemas.openxmlformats.org/officeDocument/2006/relationships/audio" Target="../media/TECLA.WAV"/><Relationship Id="rId6" Type="http://schemas.openxmlformats.org/officeDocument/2006/relationships/audio" Target="../media/TECLA.WAV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H="1">
            <a:off x="4550760" y="609840"/>
            <a:ext cx="5637960" cy="5637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8404" y="3131"/>
                </a:moveTo>
                <a:arcTo wR="10800" hR="10800" stAng="-2714675" swAng="5296892"/>
                <a:lnTo>
                  <a:pt x="10800" y="10800"/>
                </a:lnTo>
                <a:close/>
              </a:path>
              <a:path fill="none" w="21600" h="21600">
                <a:moveTo>
                  <a:pt x="18404" y="3131"/>
                </a:moveTo>
                <a:arcTo wR="10800" hR="10800" stAng="-2714675" swAng="5296892"/>
              </a:path>
            </a:pathLst>
          </a:cu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28800" y="3429000"/>
            <a:ext cx="6172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flipV="1">
            <a:off x="6019920" y="32763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flipV="1">
            <a:off x="2743200" y="2819160"/>
            <a:ext cx="0" cy="609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43200" y="2819520"/>
            <a:ext cx="1879560" cy="1440"/>
          </a:xfrm>
          <a:custGeom>
            <a:avLst/>
            <a:gdLst/>
            <a:ahLst/>
            <a:rect l="l" t="t" r="r" b="b"/>
            <a:pathLst>
              <a:path w="1184" h="1">
                <a:moveTo>
                  <a:pt x="0" y="0"/>
                </a:moveTo>
                <a:lnTo>
                  <a:pt x="1184" y="0"/>
                </a:lnTo>
              </a:path>
            </a:pathLst>
          </a:custGeom>
          <a:noFill/>
          <a:ln w="9360">
            <a:solidFill>
              <a:srgbClr val="00cc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622760" y="2819520"/>
            <a:ext cx="1397160" cy="609480"/>
          </a:xfrm>
          <a:custGeom>
            <a:avLst/>
            <a:gdLst/>
            <a:ahLst/>
            <a:rect l="l" t="t" r="r" b="b"/>
            <a:pathLst>
              <a:path w="880" h="384">
                <a:moveTo>
                  <a:pt x="0" y="0"/>
                </a:moveTo>
                <a:lnTo>
                  <a:pt x="880" y="384"/>
                </a:lnTo>
              </a:path>
            </a:pathLst>
          </a:custGeom>
          <a:noFill/>
          <a:ln w="9360">
            <a:solidFill>
              <a:srgbClr val="00cc99"/>
            </a:solidFill>
            <a:prstDash val="lg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819520"/>
            <a:ext cx="1828800" cy="22860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352600" y="2766960"/>
            <a:ext cx="2219400" cy="281160"/>
          </a:xfrm>
          <a:custGeom>
            <a:avLst/>
            <a:gdLst/>
            <a:ahLst/>
            <a:rect l="l" t="t" r="r" b="b"/>
            <a:pathLst>
              <a:path w="1398" h="177">
                <a:moveTo>
                  <a:pt x="1398" y="177"/>
                </a:moveTo>
                <a:lnTo>
                  <a:pt x="554" y="64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91520" y="34290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743200" y="2819520"/>
            <a:ext cx="1822320" cy="349200"/>
          </a:xfrm>
          <a:custGeom>
            <a:avLst/>
            <a:gdLst/>
            <a:ahLst/>
            <a:rect l="l" t="t" r="r" b="b"/>
            <a:pathLst>
              <a:path w="1148" h="220">
                <a:moveTo>
                  <a:pt x="0" y="0"/>
                </a:moveTo>
                <a:lnTo>
                  <a:pt x="1148" y="220"/>
                </a:lnTo>
              </a:path>
            </a:pathLst>
          </a:custGeom>
          <a:noFill/>
          <a:ln w="936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168720" y="3156120"/>
            <a:ext cx="1403280" cy="1440"/>
          </a:xfrm>
          <a:custGeom>
            <a:avLst/>
            <a:gdLst/>
            <a:ahLst/>
            <a:rect l="l" t="t" r="r" b="b"/>
            <a:pathLst>
              <a:path w="884" h="1">
                <a:moveTo>
                  <a:pt x="884" y="0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>
            <a:hlinkClick r:id="" action="ppaction://hlinkshowjump?jump=endshow"/>
          </p:cNvPr>
          <p:cNvSpPr/>
          <p:nvPr/>
        </p:nvSpPr>
        <p:spPr>
          <a:xfrm>
            <a:off x="5410080" y="3171960"/>
            <a:ext cx="1800" cy="257040"/>
          </a:xfrm>
          <a:custGeom>
            <a:avLst/>
            <a:gdLst/>
            <a:ahLst/>
            <a:rect l="l" t="t" r="r" b="b"/>
            <a:pathLst>
              <a:path w="1" h="162">
                <a:moveTo>
                  <a:pt x="0" y="162"/>
                </a:move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150200" y="1447920"/>
            <a:ext cx="273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99"/>
                </a:solidFill>
                <a:latin typeface="Times New Roman"/>
              </a:rPr>
              <a:t>Un rayo paralelo al eje óptico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52760" y="1447920"/>
            <a:ext cx="427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99"/>
                </a:solidFill>
                <a:latin typeface="Times New Roman"/>
              </a:rPr>
              <a:t>... se reflejará pasando su prolongación por el fo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149480" y="1766880"/>
            <a:ext cx="3000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Un rayo dirigido al centro óptico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720320" y="1766880"/>
            <a:ext cx="390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... se reflejará volviendo por el mismo camin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148040" y="2071800"/>
            <a:ext cx="229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Times New Roman"/>
              </a:rPr>
              <a:t>Un rayo dirigido al foco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607360" y="2071800"/>
            <a:ext cx="3021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Times New Roman"/>
              </a:rPr>
              <a:t>... se reflejará paralelo al eje ópti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308600" y="4191120"/>
            <a:ext cx="668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a intersección de las prolongaciones de los rayos dará la posición de la imag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468920" y="350532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929560" y="29574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16240" y="350532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124080" y="2209680"/>
            <a:ext cx="1498680" cy="615960"/>
          </a:xfrm>
          <a:custGeom>
            <a:avLst/>
            <a:gdLst/>
            <a:ahLst/>
            <a:rect l="l" t="t" r="r" b="b"/>
            <a:pathLst>
              <a:path w="1376" h="580">
                <a:moveTo>
                  <a:pt x="0" y="0"/>
                </a:moveTo>
                <a:lnTo>
                  <a:pt x="1376" y="580"/>
                </a:lnTo>
              </a:path>
            </a:pathLst>
          </a:custGeom>
          <a:noFill/>
          <a:ln w="9360">
            <a:solidFill>
              <a:srgbClr val="00cc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572000" y="3048120"/>
            <a:ext cx="2819520" cy="380880"/>
          </a:xfrm>
          <a:custGeom>
            <a:avLst/>
            <a:gdLst/>
            <a:ahLst/>
            <a:rect l="l" t="t" r="r" b="b"/>
            <a:pathLst>
              <a:path w="2928" h="384">
                <a:moveTo>
                  <a:pt x="2928" y="384"/>
                </a:moveTo>
                <a:lnTo>
                  <a:pt x="1153" y="157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3333cc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162240"/>
            <a:ext cx="1447920" cy="266760"/>
          </a:xfrm>
          <a:custGeom>
            <a:avLst/>
            <a:gdLst/>
            <a:ahLst/>
            <a:rect l="l" t="t" r="r" b="b"/>
            <a:pathLst>
              <a:path w="1770" h="336">
                <a:moveTo>
                  <a:pt x="0" y="0"/>
                </a:moveTo>
                <a:lnTo>
                  <a:pt x="1770" y="336"/>
                </a:lnTo>
              </a:path>
            </a:pathLst>
          </a:custGeom>
          <a:noFill/>
          <a:ln w="9360">
            <a:solidFill>
              <a:srgbClr val="ff3300"/>
            </a:solidFill>
            <a:prstDash val="lg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565520" y="3168720"/>
            <a:ext cx="1746360" cy="12600"/>
          </a:xfrm>
          <a:custGeom>
            <a:avLst/>
            <a:gdLst/>
            <a:ahLst/>
            <a:rect l="l" t="t" r="r" b="b"/>
            <a:pathLst>
              <a:path w="1100" h="8">
                <a:moveTo>
                  <a:pt x="1100" y="8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ff33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38280" y="4724280"/>
            <a:ext cx="5821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a imagen será virtual (formada por las prolongaciones de los rayos)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recha y men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ECL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75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ECL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" dur="75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ECL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" dur="75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0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ECL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" dur="75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ECL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" dur="75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1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ECL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" dur="75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6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12:10:47Z</dcterms:created>
  <dc:creator>fisica</dc:creator>
  <dc:description/>
  <dc:language>en-US</dc:language>
  <cp:lastModifiedBy>fisica</cp:lastModifiedBy>
  <dcterms:modified xsi:type="dcterms:W3CDTF">2005-04-19T11:42:50Z</dcterms:modified>
  <cp:revision>9</cp:revision>
  <dc:subject/>
  <dc:title>Sin título de diapositiva</dc:title>
</cp:coreProperties>
</file>