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0FF0-5362-47B7-B5E1-2A1FF6A7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3C7C-F68B-411A-A4CA-4CA7876D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1657-3EA9-4FE6-BBC8-1B7852450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6983-9C96-44E4-98C7-90B32ED0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4D2C-C44E-4377-AFCA-3A5F8CAB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E406-A912-4874-8816-BE82CE6E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5D20-5F45-49EF-8692-95DAD1DA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14A3-684E-4067-B8A4-BC26038A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498C-B951-47E1-8A34-79195085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F8E8-0E17-40C8-B18F-BFC874A6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9B03-F327-441D-8565-D9E0DCED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5F7A-10C9-4438-B352-0AA299AA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82A1-62C1-49EA-997D-53853EA5B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342900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60199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2438280" y="281916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2819520"/>
            <a:ext cx="221004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124080" y="2819520"/>
            <a:ext cx="1524240" cy="609480"/>
          </a:xfrm>
          <a:prstGeom prst="line">
            <a:avLst/>
          </a:prstGeom>
          <a:ln w="9360">
            <a:solidFill>
              <a:srgbClr val="00cc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38280" y="2819520"/>
            <a:ext cx="221004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 flipV="1">
            <a:off x="3747960" y="3181320"/>
            <a:ext cx="1800" cy="247680"/>
          </a:xfrm>
          <a:custGeom>
            <a:avLst/>
            <a:gdLst/>
            <a:ahLst/>
            <a:rect l="l" t="t" r="r" b="b"/>
            <a:pathLst>
              <a:path w="1" h="156">
                <a:moveTo>
                  <a:pt x="0" y="0"/>
                </a:moveTo>
                <a:lnTo>
                  <a:pt x="0" y="15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7920" y="114300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Un rayo paralelo al eje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54800" y="1143000"/>
            <a:ext cx="324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...se refracta pasando su prolong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por el foco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9000" y="1919160"/>
            <a:ext cx="332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Un rayo dirigido al centro de la lent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64240" y="1828800"/>
            <a:ext cx="132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...no se desv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0360" y="4738680"/>
            <a:ext cx="668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ntersección de las prolongaciones de los rayos dará la posición de la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8640" y="3414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3960" y="35812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236232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3276360"/>
            <a:ext cx="1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81840" y="3110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3429000"/>
            <a:ext cx="1371600" cy="3794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33440" y="5181480"/>
            <a:ext cx="32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magen es virtual, derecha y men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4495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648320" y="2209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647960" y="2209680"/>
            <a:ext cx="1523880" cy="60984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12:10:47Z</dcterms:created>
  <dc:creator>fisica</dc:creator>
  <dc:description/>
  <dc:language>en-US</dc:language>
  <cp:lastModifiedBy>Julio San Miguel</cp:lastModifiedBy>
  <dcterms:modified xsi:type="dcterms:W3CDTF">2005-04-04T22:13:00Z</dcterms:modified>
  <cp:revision>8</cp:revision>
  <dc:subject/>
  <dc:title>Sin título de diapositiva</dc:title>
</cp:coreProperties>
</file>