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E0D4-0603-46DC-834E-FD56637C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AF91-EBDE-4773-B2BD-06D77FE2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6E1B-C590-45CD-B352-B8EEB983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7FB4-D970-4449-A4B7-08BDB6D3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04C7-0CF0-4DE5-B3B5-08DFCE84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D60D-C1CE-4E53-8AA0-D2DEE8C0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0802-9E19-4C9E-A823-A873CD67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4DF1-487D-4ACC-A3DD-20925CF7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5EAF-2989-4C60-B1A6-FC649D52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EADF-6C4E-4B87-9D1B-89127B7D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60FF-61C1-414C-89A3-AB3FF640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9289-ABE3-4372-92FE-3162F38E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88F9-9410-40DF-B6E8-F5602E3E0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615240"/>
            <a:ext cx="5638680" cy="563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14" y="4156"/>
                </a:moveTo>
                <a:arcTo wR="10800" hR="10800" stAng="-2278025" swAng="4383509"/>
                <a:lnTo>
                  <a:pt x="10800" y="10800"/>
                </a:lnTo>
                <a:close/>
              </a:path>
              <a:path fill="none" w="21600" h="21600">
                <a:moveTo>
                  <a:pt x="19314" y="4156"/>
                </a:moveTo>
                <a:arcTo wR="10800" hR="10800" stAng="-2278025" swAng="4383509"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4290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019920" y="327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33840" y="2333520"/>
            <a:ext cx="4438440" cy="1095480"/>
          </a:xfrm>
          <a:custGeom>
            <a:avLst/>
            <a:gdLst/>
            <a:ahLst/>
            <a:rect l="l" t="t" r="r" b="b"/>
            <a:pathLst>
              <a:path w="2796" h="690">
                <a:moveTo>
                  <a:pt x="0" y="690"/>
                </a:moveTo>
                <a:lnTo>
                  <a:pt x="2796" y="0"/>
                </a:lnTo>
              </a:path>
            </a:pathLst>
          </a:custGeom>
          <a:noFill/>
          <a:ln w="93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2343240"/>
            <a:ext cx="3733920" cy="2305080"/>
          </a:xfrm>
          <a:custGeom>
            <a:avLst/>
            <a:gdLst/>
            <a:ahLst/>
            <a:rect l="l" t="t" r="r" b="b"/>
            <a:pathLst>
              <a:path w="2352" h="1452">
                <a:moveTo>
                  <a:pt x="2352" y="0"/>
                </a:moveTo>
                <a:lnTo>
                  <a:pt x="0" y="1452"/>
                </a:lnTo>
              </a:path>
            </a:pathLst>
          </a:custGeom>
          <a:noFill/>
          <a:ln w="93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3429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29560" y="2957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53080" y="3186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333520"/>
            <a:ext cx="2590920" cy="1095480"/>
          </a:xfrm>
          <a:custGeom>
            <a:avLst/>
            <a:gdLst/>
            <a:ahLst/>
            <a:rect l="l" t="t" r="r" b="b"/>
            <a:pathLst>
              <a:path w="1632" h="690">
                <a:moveTo>
                  <a:pt x="0" y="690"/>
                </a:moveTo>
                <a:lnTo>
                  <a:pt x="163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3040" y="3276720"/>
            <a:ext cx="1519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1320" y="3276720"/>
            <a:ext cx="1512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3276720"/>
            <a:ext cx="1519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92360" y="3429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9960" y="342900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40680" y="2057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6095160" y="2286000"/>
            <a:ext cx="456840" cy="60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419" y="322"/>
                </a:moveTo>
                <a:arcTo wR="10800" hR="10800" stAng="-4557826" swAng="4557826"/>
                <a:lnTo>
                  <a:pt x="10800" y="10800"/>
                </a:lnTo>
                <a:close/>
              </a:path>
              <a:path fill="none" w="21600" h="21600">
                <a:moveTo>
                  <a:pt x="13419" y="322"/>
                </a:moveTo>
                <a:arcTo wR="10800" hR="10800" stAng="-4557826" swAng="455782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3120" y="25909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6120" y="27432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5400" y="27432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581280" y="3289320"/>
                <a:ext cx="15084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029200" y="3227400"/>
                <a:ext cx="15084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791320" y="3252960"/>
                <a:ext cx="12528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" name=""/>
          <p:cNvGrpSpPr/>
          <p:nvPr/>
        </p:nvGrpSpPr>
        <p:grpSpPr>
          <a:xfrm>
            <a:off x="5562720" y="3490920"/>
            <a:ext cx="1752480" cy="337320"/>
            <a:chOff x="5562720" y="3490920"/>
            <a:chExt cx="1752480" cy="337320"/>
          </a:xfrm>
        </p:grpSpPr>
        <p:sp>
          <p:nvSpPr>
            <p:cNvPr id="65" name=""/>
            <p:cNvSpPr/>
            <p:nvPr/>
          </p:nvSpPr>
          <p:spPr>
            <a:xfrm>
              <a:off x="5562720" y="35812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82920" y="3490920"/>
              <a:ext cx="39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-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648320" y="3657600"/>
            <a:ext cx="2666880" cy="337320"/>
            <a:chOff x="4648320" y="3657600"/>
            <a:chExt cx="2666880" cy="337320"/>
          </a:xfrm>
        </p:grpSpPr>
        <p:sp>
          <p:nvSpPr>
            <p:cNvPr id="68" name=""/>
            <p:cNvSpPr/>
            <p:nvPr/>
          </p:nvSpPr>
          <p:spPr>
            <a:xfrm>
              <a:off x="4648320" y="396252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17880" y="3657600"/>
              <a:ext cx="31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819520" y="4191120"/>
            <a:ext cx="4495680" cy="337320"/>
            <a:chOff x="2819520" y="4191120"/>
            <a:chExt cx="4495680" cy="337320"/>
          </a:xfrm>
        </p:grpSpPr>
        <p:sp>
          <p:nvSpPr>
            <p:cNvPr id="71" name=""/>
            <p:cNvSpPr/>
            <p:nvPr/>
          </p:nvSpPr>
          <p:spPr>
            <a:xfrm>
              <a:off x="2819520" y="419112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03120" y="41911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134000" y="1128600"/>
            <a:ext cx="25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 la aproximación paraxi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657600" y="1219320"/>
                <a:ext cx="914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g</m:t>
                    </m:r>
                    <m:r>
                      <m:t xml:space="preserve">α</m:t>
                    </m:r>
                    <m:r>
                      <m:t xml:space="preserve">≃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057640" y="1066680"/>
                <a:ext cx="32004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s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314360" y="4786200"/>
            <a:ext cx="19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 el triángulo OPO’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459240" y="4800600"/>
                <a:ext cx="99036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406160" y="5486400"/>
            <a:ext cx="195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 el triángulo CPO’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608280" y="5481720"/>
                <a:ext cx="8748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876920" y="5181480"/>
                <a:ext cx="10890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964200" y="4952880"/>
                <a:ext cx="14194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7377480" y="26528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52480" y="615240"/>
            <a:ext cx="5638680" cy="563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14" y="4156"/>
                </a:moveTo>
                <a:arcTo wR="10800" hR="10800" stAng="-2278025" swAng="4383509"/>
                <a:lnTo>
                  <a:pt x="10800" y="10800"/>
                </a:lnTo>
                <a:close/>
              </a:path>
              <a:path fill="none" w="21600" h="21600">
                <a:moveTo>
                  <a:pt x="19314" y="4156"/>
                </a:moveTo>
                <a:arcTo wR="10800" hR="10800" stAng="-2278025" swAng="4383509"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4290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019920" y="327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743200" y="28191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2819520"/>
            <a:ext cx="45720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428640" y="2819520"/>
            <a:ext cx="3886200" cy="18288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819520"/>
            <a:ext cx="4638600" cy="609480"/>
          </a:xfrm>
          <a:custGeom>
            <a:avLst/>
            <a:gdLst/>
            <a:ahLst/>
            <a:rect l="l" t="t" r="r" b="b"/>
            <a:pathLst>
              <a:path w="2922" h="384">
                <a:moveTo>
                  <a:pt x="0" y="0"/>
                </a:moveTo>
                <a:lnTo>
                  <a:pt x="2922" y="384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57680" y="3438360"/>
            <a:ext cx="4533840" cy="638280"/>
          </a:xfrm>
          <a:custGeom>
            <a:avLst/>
            <a:gdLst/>
            <a:ahLst/>
            <a:rect l="l" t="t" r="r" b="b"/>
            <a:pathLst>
              <a:path w="2856" h="402">
                <a:moveTo>
                  <a:pt x="2856" y="0"/>
                </a:moveTo>
                <a:lnTo>
                  <a:pt x="0" y="402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3429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2819520"/>
            <a:ext cx="4638600" cy="876240"/>
          </a:xfrm>
          <a:custGeom>
            <a:avLst/>
            <a:gdLst/>
            <a:ahLst/>
            <a:rect l="l" t="t" r="r" b="b"/>
            <a:pathLst>
              <a:path w="2922" h="552">
                <a:moveTo>
                  <a:pt x="0" y="0"/>
                </a:moveTo>
                <a:lnTo>
                  <a:pt x="2922" y="552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4920" y="3714840"/>
            <a:ext cx="2657520" cy="1440"/>
          </a:xfrm>
          <a:custGeom>
            <a:avLst/>
            <a:gdLst/>
            <a:ahLst/>
            <a:rect l="l" t="t" r="r" b="b"/>
            <a:pathLst>
              <a:path w="1674" h="1">
                <a:moveTo>
                  <a:pt x="1674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3429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28640" y="34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29560" y="2957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53080" y="3186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23880" y="29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486400" y="3719520"/>
            <a:ext cx="1752480" cy="337320"/>
            <a:chOff x="5486400" y="3719520"/>
            <a:chExt cx="1752480" cy="337320"/>
          </a:xfrm>
        </p:grpSpPr>
        <p:sp>
          <p:nvSpPr>
            <p:cNvPr id="100" name=""/>
            <p:cNvSpPr/>
            <p:nvPr/>
          </p:nvSpPr>
          <p:spPr>
            <a:xfrm>
              <a:off x="5486400" y="38098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06600" y="3719520"/>
              <a:ext cx="39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-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743200" y="4419720"/>
            <a:ext cx="4495680" cy="337320"/>
            <a:chOff x="2743200" y="4419720"/>
            <a:chExt cx="4495680" cy="337320"/>
          </a:xfrm>
        </p:grpSpPr>
        <p:sp>
          <p:nvSpPr>
            <p:cNvPr id="103" name=""/>
            <p:cNvSpPr/>
            <p:nvPr/>
          </p:nvSpPr>
          <p:spPr>
            <a:xfrm>
              <a:off x="2743200" y="441972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26800" y="44197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 flipV="1" rot="1660200">
            <a:off x="6151320" y="3042000"/>
            <a:ext cx="456840" cy="60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419" y="322"/>
                </a:moveTo>
                <a:arcTo wR="10800" hR="10800" stAng="-4557826" swAng="4557826"/>
                <a:lnTo>
                  <a:pt x="10800" y="10800"/>
                </a:lnTo>
                <a:close/>
              </a:path>
              <a:path fill="none" w="21600" h="21600">
                <a:moveTo>
                  <a:pt x="13419" y="322"/>
                </a:moveTo>
                <a:arcTo wR="10800" hR="10800" stAng="-4557826" swAng="455782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3120" y="3092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6120" y="34290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55400" y="34290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h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34000" y="1128600"/>
            <a:ext cx="25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 la aproximación paraxi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657600" y="1219320"/>
                <a:ext cx="914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g</m:t>
                    </m:r>
                    <m:r>
                      <m:t xml:space="preserve">α</m:t>
                    </m:r>
                    <m:r>
                      <m:t xml:space="preserve">≃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638360" y="1666800"/>
                <a:ext cx="17524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s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rPr>
                        <m:lit/>
                        <m:nor/>
                      </m:rPr>
                      <m:t xml:space="preserve">i'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-h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621320" y="1666800"/>
                <a:ext cx="81576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11:45:06Z</dcterms:created>
  <dc:creator>fisica</dc:creator>
  <dc:description/>
  <dc:language>en-US</dc:language>
  <cp:lastModifiedBy>fisica</cp:lastModifiedBy>
  <dcterms:modified xsi:type="dcterms:W3CDTF">2005-04-20T12:31:55Z</dcterms:modified>
  <cp:revision>2</cp:revision>
  <dc:subject/>
  <dc:title>Sin título de diapositiva</dc:title>
</cp:coreProperties>
</file>