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CL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100-9A9C-4D2F-8CB9-4E988984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4CA-628E-491C-B594-98F2FE28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C62-B8A5-4898-90A7-700A1EFC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A15-374B-4365-9107-59B50157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859-C73B-4A4C-930C-45E1F410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808-4D8F-49E6-8A40-7C4005A1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55A-3A54-4CCC-AADF-BEDDCC73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8D4-2EAE-4C78-9029-130BE820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235-51FC-43FD-9E27-F9956082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C6D-404A-41CF-94D0-422D3851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833-EC25-4DC6-8A5E-2A7B68A2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9B6-65C6-48C0-BCA1-77743014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6AEF-F424-4E4F-88A7-47EA1EF4F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02640"/>
            <a:ext cx="5638680" cy="563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2" y="4204"/>
                </a:moveTo>
                <a:arcTo wR="10800" hR="10800" stAng="-2258385" swAng="4325515"/>
                <a:lnTo>
                  <a:pt x="10800" y="10800"/>
                </a:lnTo>
                <a:close/>
              </a:path>
              <a:path fill="none" w="21600" h="21600">
                <a:moveTo>
                  <a:pt x="19352" y="4204"/>
                </a:moveTo>
                <a:arcTo wR="10800" hR="10800" stAng="-2258385" swAng="4325515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012000" y="30686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068640"/>
            <a:ext cx="136836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195640" y="3068640"/>
            <a:ext cx="5184720" cy="13683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280" y="129528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72800" y="129528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560" y="161460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83880" y="161460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94760" y="4572000"/>
            <a:ext cx="50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rayos salen paralelos y la imagen se forma en el infin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744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9080" y="3500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25560"/>
            <a:ext cx="2717640" cy="703440"/>
          </a:xfrm>
          <a:custGeom>
            <a:avLst/>
            <a:gdLst/>
            <a:ahLst/>
            <a:rect l="l" t="t" r="r" b="b"/>
            <a:pathLst>
              <a:path w="1712" h="443">
                <a:moveTo>
                  <a:pt x="0" y="443"/>
                </a:moveTo>
                <a:lnTo>
                  <a:pt x="1712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16280" y="2725560"/>
            <a:ext cx="5406840" cy="1366920"/>
          </a:xfrm>
          <a:custGeom>
            <a:avLst/>
            <a:gdLst/>
            <a:ahLst/>
            <a:rect l="l" t="t" r="r" b="b"/>
            <a:pathLst>
              <a:path w="3406" h="861">
                <a:moveTo>
                  <a:pt x="0" y="861"/>
                </a:moveTo>
                <a:lnTo>
                  <a:pt x="3406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1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6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85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5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675"/>
                            </p:stCondLst>
                            <p:childTnLst>
                              <p:par>
                                <p:cTn id="2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4175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8100"/>
                            </p:stCondLst>
                            <p:childTnLst>
                              <p:par>
                                <p:cTn id="3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96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1:22Z</dcterms:created>
  <dc:creator>Julio San Miguel</dc:creator>
  <dc:description/>
  <dc:language>en-US</dc:language>
  <cp:lastModifiedBy>julio</cp:lastModifiedBy>
  <dcterms:modified xsi:type="dcterms:W3CDTF">2008-04-18T09:26:07Z</dcterms:modified>
  <cp:revision>2</cp:revision>
  <dc:subject/>
  <dc:title>Sin título de diapositiva</dc:title>
</cp:coreProperties>
</file>