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2CC-DC7B-40B8-8015-C1738793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ADC-04AD-4228-855E-0BEB75E4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9F4-79C8-4E95-85DD-9C68028C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DFB-84FA-4899-889D-C7741963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307-D360-42CE-8544-70CD1839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51D-8283-48B6-BFBA-1CE990B1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D56-0AD3-4E07-9B1F-16041F37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0AD-8AD9-4BA7-A340-7E8044F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6E4-E8A9-456C-A0C9-F1917BD5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A3D-349A-4AD0-A7E1-31B390B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8D5-03B2-45C2-93E5-F3EA1F2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691-F19C-4523-BB3F-3890E2F0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49DB-A3D0-4ADE-82DA-5CF8A8335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58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819520"/>
            <a:ext cx="396252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781680" y="3429000"/>
            <a:ext cx="77760" cy="3380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32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8040" y="144792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040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91760" y="176688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73480" y="464832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765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429000"/>
            <a:ext cx="396216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9200" y="501480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819520"/>
            <a:ext cx="2743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819520"/>
            <a:ext cx="27432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448400" y="3429000"/>
            <a:ext cx="1800" cy="623880"/>
          </a:xfrm>
          <a:custGeom>
            <a:avLst/>
            <a:gdLst/>
            <a:ahLst/>
            <a:rect l="l" t="t" r="r" b="b"/>
            <a:pathLst>
              <a:path w="1" h="393">
                <a:moveTo>
                  <a:pt x="0" y="0"/>
                </a:moveTo>
                <a:lnTo>
                  <a:pt x="0" y="3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000" y="158580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584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4080" y="190512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917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47386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767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9051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7960" y="36576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6080" y="510552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e i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3429000"/>
            <a:ext cx="342900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3828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819520"/>
            <a:ext cx="22100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819520"/>
            <a:ext cx="22100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8381880" y="3429000"/>
            <a:ext cx="1800" cy="10238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280" y="15098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87000" y="158580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6720" y="18288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20360" y="19051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44880" y="4724280"/>
            <a:ext cx="48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3429000"/>
            <a:ext cx="4267080" cy="1177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00600" y="516744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real, invertid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73392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819520"/>
            <a:ext cx="91440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endshow"/>
          </p:cNvPr>
          <p:cNvSpPr/>
          <p:nvPr/>
        </p:nvSpPr>
        <p:spPr>
          <a:xfrm>
            <a:off x="1981080" y="1676520"/>
            <a:ext cx="77760" cy="175248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7440" y="7621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8400" y="83808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racta pasando por el foco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0400" y="1143000"/>
            <a:ext cx="33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de la l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91760" y="11574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no se des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40160" y="4586400"/>
            <a:ext cx="64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a prolongación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3600" y="35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2767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429000"/>
            <a:ext cx="3124080" cy="2082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1447920"/>
            <a:ext cx="2057400" cy="13716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914400"/>
            <a:ext cx="4343400" cy="1916280"/>
          </a:xfrm>
          <a:prstGeom prst="line">
            <a:avLst/>
          </a:prstGeom>
          <a:ln w="9360">
            <a:solidFill>
              <a:srgbClr val="00cc99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9760" y="495288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es virtual, derecha y may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10:47Z</dcterms:created>
  <dc:creator>fisica</dc:creator>
  <dc:description/>
  <dc:language>en-US</dc:language>
  <cp:lastModifiedBy>fisica</cp:lastModifiedBy>
  <dcterms:modified xsi:type="dcterms:W3CDTF">2005-04-28T11:28:45Z</dcterms:modified>
  <cp:revision>8</cp:revision>
  <dc:subject/>
  <dc:title>Sin título de diapositiva</dc:title>
</cp:coreProperties>
</file>