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F8D-37F4-49E3-9BC3-C755F96F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0DE-8062-4F23-B7F9-F92097C6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CB5-B91C-430E-B363-5D4D155F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441-8601-4B82-8A12-2BDF90A9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BA5-E2B1-4816-8EA1-E4F0AFD4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85D-4C40-4FA3-A9EE-A5EE06CA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39E-E568-444E-806F-6C97B50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0D6-E106-4A48-A5E7-01CC6F4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A57-E2AE-4FAE-854D-8248A17D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A00-EB11-4A3B-8CAD-85AA6DA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123-3D7B-4C72-9FB2-C0716DF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2FD-7D33-4997-8AA2-30C5F90B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1F5-ACFE-4467-9352-A6F8584F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32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3480" y="464832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9200" y="50148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07Z</dcterms:created>
  <dc:creator>Julio San Miguel</dc:creator>
  <dc:description/>
  <dc:language>en-US</dc:language>
  <cp:lastModifiedBy>Julio San Miguel</cp:lastModifiedBy>
  <dcterms:modified xsi:type="dcterms:W3CDTF">2005-04-24T18:08:38Z</dcterms:modified>
  <cp:revision>1</cp:revision>
  <dc:subject/>
  <dc:title>Sin título de diapositiva</dc:title>
</cp:coreProperties>
</file>