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6FF-1C70-47A9-9D15-9F377610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EE9-C729-496E-83E4-F9A964B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92F-07C3-4C1A-AEDC-2CE37936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918-D524-40D5-9A66-75041E83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B0D-CFBD-460B-877E-8594CDE2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14F-594F-420D-B169-8DAEC314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035-FDE7-4255-9517-ABEDB78D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E3D-3E77-48CE-82D2-F013BA75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E8B-F537-414B-8EA9-7A7C86CF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E84-A32D-4627-9F38-7EAB45A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786-7DC4-4339-B089-F26605F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1BB-5022-42FD-94EC-2E99A13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9DB-6800-44EF-8EC2-40671F6BFF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6095880" cy="1868760"/>
          </a:xfrm>
          <a:prstGeom prst="rect">
            <a:avLst/>
          </a:prstGeom>
          <a:ln w="0">
            <a:noFill/>
          </a:ln>
        </p:spPr>
      </p:pic>
      <p:pic>
        <p:nvPicPr>
          <p:cNvPr id="42" name="bonka_b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82480" cy="365400"/>
          </a:xfrm>
          <a:prstGeom prst="rect">
            <a:avLst/>
          </a:prstGeom>
          <a:ln w="0">
            <a:noFill/>
          </a:ln>
        </p:spPr>
      </p:pic>
      <p:pic>
        <p:nvPicPr>
          <p:cNvPr id="43" name="buitoni_b" descr=""/>
          <p:cNvPicPr/>
          <p:nvPr/>
        </p:nvPicPr>
        <p:blipFill>
          <a:blip r:embed="rId4"/>
          <a:stretch/>
        </p:blipFill>
        <p:spPr>
          <a:xfrm>
            <a:off x="2514600" y="5410080"/>
            <a:ext cx="708120" cy="365400"/>
          </a:xfrm>
          <a:prstGeom prst="rect">
            <a:avLst/>
          </a:prstGeom>
          <a:ln w="0">
            <a:noFill/>
          </a:ln>
        </p:spPr>
      </p:pic>
      <p:pic>
        <p:nvPicPr>
          <p:cNvPr id="44" name="camy_b" descr=""/>
          <p:cNvPicPr/>
          <p:nvPr/>
        </p:nvPicPr>
        <p:blipFill>
          <a:blip r:embed="rId5"/>
          <a:stretch/>
        </p:blipFill>
        <p:spPr>
          <a:xfrm>
            <a:off x="3505320" y="5410080"/>
            <a:ext cx="46836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cereales_2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650880" cy="378000"/>
          </a:xfrm>
          <a:prstGeom prst="rect">
            <a:avLst/>
          </a:prstGeom>
          <a:ln w="0">
            <a:noFill/>
          </a:ln>
        </p:spPr>
      </p:pic>
      <p:pic>
        <p:nvPicPr>
          <p:cNvPr id="46" name="crunch_b" descr=""/>
          <p:cNvPicPr/>
          <p:nvPr/>
        </p:nvPicPr>
        <p:blipFill>
          <a:blip r:embed="rId7"/>
          <a:stretch/>
        </p:blipFill>
        <p:spPr>
          <a:xfrm>
            <a:off x="5334120" y="5410080"/>
            <a:ext cx="639720" cy="365400"/>
          </a:xfrm>
          <a:prstGeom prst="rect">
            <a:avLst/>
          </a:prstGeom>
          <a:ln w="0">
            <a:noFill/>
          </a:ln>
        </p:spPr>
      </p:pic>
      <p:pic>
        <p:nvPicPr>
          <p:cNvPr id="47" name="eko_b" descr=""/>
          <p:cNvPicPr/>
          <p:nvPr/>
        </p:nvPicPr>
        <p:blipFill>
          <a:blip r:embed="rId8"/>
          <a:stretch/>
        </p:blipFill>
        <p:spPr>
          <a:xfrm>
            <a:off x="6324480" y="5410080"/>
            <a:ext cx="514440" cy="365400"/>
          </a:xfrm>
          <a:prstGeom prst="rect">
            <a:avLst/>
          </a:prstGeom>
          <a:ln w="0">
            <a:noFill/>
          </a:ln>
        </p:spPr>
      </p:pic>
      <p:pic>
        <p:nvPicPr>
          <p:cNvPr id="48" name="flor_b" descr=""/>
          <p:cNvPicPr/>
          <p:nvPr/>
        </p:nvPicPr>
        <p:blipFill>
          <a:blip r:embed="rId9"/>
          <a:stretch/>
        </p:blipFill>
        <p:spPr>
          <a:xfrm>
            <a:off x="7162920" y="5410080"/>
            <a:ext cx="720720" cy="365400"/>
          </a:xfrm>
          <a:prstGeom prst="rect">
            <a:avLst/>
          </a:prstGeom>
          <a:ln w="0">
            <a:noFill/>
          </a:ln>
        </p:spPr>
      </p:pic>
      <p:pic>
        <p:nvPicPr>
          <p:cNvPr id="49" name="food_b" descr=""/>
          <p:cNvPicPr/>
          <p:nvPr/>
        </p:nvPicPr>
        <p:blipFill>
          <a:blip r:embed="rId10"/>
          <a:stretch/>
        </p:blipFill>
        <p:spPr>
          <a:xfrm>
            <a:off x="8001000" y="4343400"/>
            <a:ext cx="593640" cy="343080"/>
          </a:xfrm>
          <a:prstGeom prst="rect">
            <a:avLst/>
          </a:prstGeom>
          <a:ln w="0">
            <a:noFill/>
          </a:ln>
        </p:spPr>
      </p:pic>
      <p:pic>
        <p:nvPicPr>
          <p:cNvPr id="50" name="kitkat_b" descr=""/>
          <p:cNvPicPr/>
          <p:nvPr/>
        </p:nvPicPr>
        <p:blipFill>
          <a:blip r:embed="rId11"/>
          <a:stretch/>
        </p:blipFill>
        <p:spPr>
          <a:xfrm>
            <a:off x="457200" y="205740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51" name="lechera_b" descr=""/>
          <p:cNvPicPr/>
          <p:nvPr/>
        </p:nvPicPr>
        <p:blipFill>
          <a:blip r:embed="rId12"/>
          <a:stretch/>
        </p:blipFill>
        <p:spPr>
          <a:xfrm>
            <a:off x="457200" y="5410080"/>
            <a:ext cx="696960" cy="365400"/>
          </a:xfrm>
          <a:prstGeom prst="rect">
            <a:avLst/>
          </a:prstGeom>
          <a:ln w="0">
            <a:noFill/>
          </a:ln>
        </p:spPr>
      </p:pic>
      <p:pic>
        <p:nvPicPr>
          <p:cNvPr id="52" name="litoral_b" descr=""/>
          <p:cNvPicPr/>
          <p:nvPr/>
        </p:nvPicPr>
        <p:blipFill>
          <a:blip r:embed="rId13"/>
          <a:stretch/>
        </p:blipFill>
        <p:spPr>
          <a:xfrm>
            <a:off x="4732200" y="838080"/>
            <a:ext cx="731880" cy="263520"/>
          </a:xfrm>
          <a:prstGeom prst="rect">
            <a:avLst/>
          </a:prstGeom>
          <a:ln w="0">
            <a:noFill/>
          </a:ln>
        </p:spPr>
      </p:pic>
      <p:pic>
        <p:nvPicPr>
          <p:cNvPr id="53" name="maggi_b" descr=""/>
          <p:cNvPicPr/>
          <p:nvPr/>
        </p:nvPicPr>
        <p:blipFill>
          <a:blip r:embed="rId14"/>
          <a:stretch/>
        </p:blipFill>
        <p:spPr>
          <a:xfrm>
            <a:off x="3894120" y="762120"/>
            <a:ext cx="606600" cy="365040"/>
          </a:xfrm>
          <a:prstGeom prst="rect">
            <a:avLst/>
          </a:prstGeom>
          <a:ln w="0">
            <a:noFill/>
          </a:ln>
        </p:spPr>
      </p:pic>
      <p:pic>
        <p:nvPicPr>
          <p:cNvPr id="54" name="milkybar_b" descr=""/>
          <p:cNvPicPr/>
          <p:nvPr/>
        </p:nvPicPr>
        <p:blipFill>
          <a:blip r:embed="rId15"/>
          <a:stretch/>
        </p:blipFill>
        <p:spPr>
          <a:xfrm>
            <a:off x="2819520" y="762120"/>
            <a:ext cx="639720" cy="365040"/>
          </a:xfrm>
          <a:prstGeom prst="rect">
            <a:avLst/>
          </a:prstGeom>
          <a:ln w="0">
            <a:noFill/>
          </a:ln>
        </p:spPr>
      </p:pic>
      <p:pic>
        <p:nvPicPr>
          <p:cNvPr id="55" name="nescafe_b" descr=""/>
          <p:cNvPicPr/>
          <p:nvPr/>
        </p:nvPicPr>
        <p:blipFill>
          <a:blip r:embed="rId16"/>
          <a:stretch/>
        </p:blipFill>
        <p:spPr>
          <a:xfrm>
            <a:off x="1676520" y="762120"/>
            <a:ext cx="788760" cy="365040"/>
          </a:xfrm>
          <a:prstGeom prst="rect">
            <a:avLst/>
          </a:prstGeom>
          <a:ln w="0">
            <a:noFill/>
          </a:ln>
        </p:spPr>
      </p:pic>
      <p:pic>
        <p:nvPicPr>
          <p:cNvPr id="56" name="nesquik_b" descr=""/>
          <p:cNvPicPr/>
          <p:nvPr/>
        </p:nvPicPr>
        <p:blipFill>
          <a:blip r:embed="rId17"/>
          <a:stretch/>
        </p:blipFill>
        <p:spPr>
          <a:xfrm>
            <a:off x="457200" y="762120"/>
            <a:ext cx="617400" cy="411120"/>
          </a:xfrm>
          <a:prstGeom prst="rect">
            <a:avLst/>
          </a:prstGeom>
          <a:ln w="0">
            <a:noFill/>
          </a:ln>
        </p:spPr>
      </p:pic>
      <p:pic>
        <p:nvPicPr>
          <p:cNvPr id="57" name="nestlechoc_b" descr=""/>
          <p:cNvPicPr/>
          <p:nvPr/>
        </p:nvPicPr>
        <p:blipFill>
          <a:blip r:embed="rId18"/>
          <a:stretch/>
        </p:blipFill>
        <p:spPr>
          <a:xfrm>
            <a:off x="5646600" y="7621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58" name="nestleref_b" descr=""/>
          <p:cNvPicPr/>
          <p:nvPr/>
        </p:nvPicPr>
        <p:blipFill>
          <a:blip r:embed="rId19"/>
          <a:stretch/>
        </p:blipFill>
        <p:spPr>
          <a:xfrm>
            <a:off x="457200" y="3352680"/>
            <a:ext cx="628560" cy="343080"/>
          </a:xfrm>
          <a:prstGeom prst="rect">
            <a:avLst/>
          </a:prstGeom>
          <a:ln w="0">
            <a:noFill/>
          </a:ln>
        </p:spPr>
      </p:pic>
      <p:pic>
        <p:nvPicPr>
          <p:cNvPr id="59" name="solis_b" descr=""/>
          <p:cNvPicPr/>
          <p:nvPr/>
        </p:nvPicPr>
        <p:blipFill>
          <a:blip r:embed="rId20"/>
          <a:stretch/>
        </p:blipFill>
        <p:spPr>
          <a:xfrm>
            <a:off x="8001000" y="3200400"/>
            <a:ext cx="571680" cy="365040"/>
          </a:xfrm>
          <a:prstGeom prst="rect">
            <a:avLst/>
          </a:prstGeom>
          <a:ln w="0">
            <a:noFill/>
          </a:ln>
        </p:spPr>
      </p:pic>
      <p:pic>
        <p:nvPicPr>
          <p:cNvPr id="60" name="sveltesse_b" descr=""/>
          <p:cNvPicPr/>
          <p:nvPr/>
        </p:nvPicPr>
        <p:blipFill>
          <a:blip r:embed="rId21"/>
          <a:stretch/>
        </p:blipFill>
        <p:spPr>
          <a:xfrm>
            <a:off x="8077320" y="2057400"/>
            <a:ext cx="54900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home_1" descr=""/>
          <p:cNvPicPr/>
          <p:nvPr/>
        </p:nvPicPr>
        <p:blipFill>
          <a:blip r:embed="rId22"/>
          <a:stretch/>
        </p:blipFill>
        <p:spPr>
          <a:xfrm>
            <a:off x="7924680" y="838080"/>
            <a:ext cx="685800" cy="293760"/>
          </a:xfrm>
          <a:prstGeom prst="rect">
            <a:avLst/>
          </a:prstGeom>
          <a:ln w="0">
            <a:noFill/>
          </a:ln>
        </p:spPr>
      </p:pic>
      <p:pic>
        <p:nvPicPr>
          <p:cNvPr id="62" name="home_2" descr=""/>
          <p:cNvPicPr/>
          <p:nvPr/>
        </p:nvPicPr>
        <p:blipFill>
          <a:blip r:embed="rId23"/>
          <a:stretch/>
        </p:blipFill>
        <p:spPr>
          <a:xfrm>
            <a:off x="6629400" y="762120"/>
            <a:ext cx="682560" cy="420480"/>
          </a:xfrm>
          <a:prstGeom prst="rect">
            <a:avLst/>
          </a:prstGeom>
          <a:ln w="0">
            <a:noFill/>
          </a:ln>
        </p:spPr>
      </p:pic>
      <p:pic>
        <p:nvPicPr>
          <p:cNvPr id="63" name="perrier" descr=""/>
          <p:cNvPicPr/>
          <p:nvPr/>
        </p:nvPicPr>
        <p:blipFill>
          <a:blip r:embed="rId24"/>
          <a:stretch/>
        </p:blipFill>
        <p:spPr>
          <a:xfrm>
            <a:off x="4267080" y="5257800"/>
            <a:ext cx="609840" cy="546120"/>
          </a:xfrm>
          <a:prstGeom prst="rect">
            <a:avLst/>
          </a:prstGeom>
          <a:ln w="0">
            <a:noFill/>
          </a:ln>
        </p:spPr>
      </p:pic>
      <p:pic>
        <p:nvPicPr>
          <p:cNvPr id="64" name="vittel" descr=""/>
          <p:cNvPicPr/>
          <p:nvPr/>
        </p:nvPicPr>
        <p:blipFill>
          <a:blip r:embed="rId25"/>
          <a:stretch/>
        </p:blipFill>
        <p:spPr>
          <a:xfrm>
            <a:off x="8305920" y="5181480"/>
            <a:ext cx="290520" cy="79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895480" y="4191120"/>
            <a:ext cx="36957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Joaquín Segura Tiñen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Orígenes y Evolución de </a:t>
            </a:r>
            <a:r>
              <a:rPr b="1" lang="en-US" sz="4400" spc="-1" strike="noStrike">
                <a:solidFill>
                  <a:srgbClr val="ff6600"/>
                </a:solidFill>
                <a:latin typeface="Abadi MT Condensed Light"/>
              </a:rPr>
              <a:t>Nestlé</a:t>
            </a: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866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ndación de la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0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entre Nestlé y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Anglo-Swiss Condensed Milk Company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29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uisses S.A.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de Peter-Cailler-Kohler Chocola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47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Alimentana S.A.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Magg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Crosse and Blackwell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: alimentos de conserv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1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Nestlé adquier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Locatelli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Italia: empresa productora de ques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62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Findu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: compañía escandinava de alimentos congelad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Libby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empresa norteamericana productora de zumos de fru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1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Fusión con Ursina-Franck (Suiz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3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touffer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: empresa norteamericana especializada en alimentos congel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79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Beech-Nut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compañía norteamericana especializada en alimentos para beb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69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Orígenes y Evolución de </a:t>
            </a:r>
            <a:r>
              <a:rPr b="1" lang="en-US" sz="4400" spc="-1" strike="noStrike">
                <a:solidFill>
                  <a:srgbClr val="ff6600"/>
                </a:solidFill>
                <a:latin typeface="Abadi MT Condensed Light"/>
              </a:rPr>
              <a:t>Nestlé</a:t>
            </a: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l clavel (los EEUU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Buitoni-Perugina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Ital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8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 Rowntree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2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Perrier 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(Franc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5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chmidt y Söhne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7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absoluta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an Pellegr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1998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Nestlé adquier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Spillers Petfood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GB). Desposeimiento de la marca de fábrica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 Findus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(excepto en Suiza e Ital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badi MT Condensed Light"/>
                <a:ea typeface="Times New Roman"/>
              </a:rPr>
              <a:t>2000: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 Adquisición de </a:t>
            </a:r>
            <a:r>
              <a:rPr b="0" lang="es-ES" sz="2200" spc="-1" strike="noStrike">
                <a:solidFill>
                  <a:srgbClr val="ff6600"/>
                </a:solidFill>
                <a:latin typeface="Abadi MT Condensed Light"/>
                <a:ea typeface="Times New Roman"/>
              </a:rPr>
              <a:t>PowerBar</a:t>
            </a:r>
            <a:r>
              <a:rPr b="0" lang="es-ES" sz="22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74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Análisis DAF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78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397160"/>
          <a:ext cx="8153280" cy="50036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8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Puntos DÉB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No tiene puntos débi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Si una empresa le hace competencia la adquie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AMENA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Posible Saturación del 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Crisis económica en alguno de los países en los que ope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Entrada de otras multinacionales en el sector que actú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Puntos FUE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Gran infraestructura en más de 50 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Gran departamento de I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Realización de Grandes campañas public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Liderazgo en el sector de la aliment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badi MT Condensed Light"/>
                        </a:rPr>
                        <a:t>OPORTUN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Desarrollo e investigación de nuevos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badi MT Condensed Light"/>
                        </a:rPr>
                        <a:t>*Posibilidad de adquirir o fusionarse con otras empresas del s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badi MT Condensed Light"/>
              </a:rPr>
              <a:t>Localización de Nestle en Españ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stlechoc_b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549360" cy="365040"/>
          </a:xfrm>
          <a:prstGeom prst="rect">
            <a:avLst/>
          </a:prstGeom>
          <a:ln w="0">
            <a:noFill/>
          </a:ln>
        </p:spPr>
      </p:pic>
      <p:pic>
        <p:nvPicPr>
          <p:cNvPr id="83" name="nestlechoc_b" descr=""/>
          <p:cNvPicPr/>
          <p:nvPr/>
        </p:nvPicPr>
        <p:blipFill>
          <a:blip r:embed="rId3"/>
          <a:stretch/>
        </p:blipFill>
        <p:spPr>
          <a:xfrm>
            <a:off x="7772400" y="533520"/>
            <a:ext cx="549360" cy="36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3880" y="990720"/>
            <a:ext cx="62485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apa_donde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34401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 flipV="1">
            <a:off x="3276360" y="19810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743200" y="228600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200040" y="213336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24280" y="350532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205740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Caf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00600" y="2590920"/>
            <a:ext cx="24004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Sede Central de Nestlé Españ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886200"/>
            <a:ext cx="18954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Light"/>
              </a:rPr>
              <a:t>Leche, yogures, hel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19520" y="28191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447920" y="1294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52480" y="1295280"/>
            <a:ext cx="37339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Platos Precocin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523880"/>
            <a:ext cx="1928880" cy="1346400"/>
          </a:xfrm>
          <a:custGeom>
            <a:avLst/>
            <a:gdLst/>
            <a:ahLst/>
            <a:rect l="l" t="t" r="r" b="b"/>
            <a:pathLst>
              <a:path w="1215" h="848">
                <a:moveTo>
                  <a:pt x="960" y="131"/>
                </a:moveTo>
                <a:cubicBezTo>
                  <a:pt x="946" y="128"/>
                  <a:pt x="886" y="114"/>
                  <a:pt x="870" y="105"/>
                </a:cubicBezTo>
                <a:cubicBezTo>
                  <a:pt x="843" y="90"/>
                  <a:pt x="823" y="62"/>
                  <a:pt x="793" y="54"/>
                </a:cubicBezTo>
                <a:cubicBezTo>
                  <a:pt x="713" y="34"/>
                  <a:pt x="759" y="44"/>
                  <a:pt x="652" y="28"/>
                </a:cubicBezTo>
                <a:cubicBezTo>
                  <a:pt x="565" y="0"/>
                  <a:pt x="539" y="5"/>
                  <a:pt x="435" y="16"/>
                </a:cubicBezTo>
                <a:cubicBezTo>
                  <a:pt x="431" y="37"/>
                  <a:pt x="437" y="65"/>
                  <a:pt x="422" y="80"/>
                </a:cubicBezTo>
                <a:cubicBezTo>
                  <a:pt x="403" y="99"/>
                  <a:pt x="372" y="104"/>
                  <a:pt x="345" y="105"/>
                </a:cubicBezTo>
                <a:cubicBezTo>
                  <a:pt x="264" y="109"/>
                  <a:pt x="183" y="114"/>
                  <a:pt x="102" y="118"/>
                </a:cubicBezTo>
                <a:cubicBezTo>
                  <a:pt x="11" y="149"/>
                  <a:pt x="40" y="121"/>
                  <a:pt x="0" y="182"/>
                </a:cubicBezTo>
                <a:cubicBezTo>
                  <a:pt x="19" y="261"/>
                  <a:pt x="53" y="285"/>
                  <a:pt x="128" y="310"/>
                </a:cubicBezTo>
                <a:cubicBezTo>
                  <a:pt x="196" y="304"/>
                  <a:pt x="271" y="315"/>
                  <a:pt x="332" y="284"/>
                </a:cubicBezTo>
                <a:cubicBezTo>
                  <a:pt x="507" y="197"/>
                  <a:pt x="341" y="256"/>
                  <a:pt x="448" y="220"/>
                </a:cubicBezTo>
                <a:cubicBezTo>
                  <a:pt x="550" y="237"/>
                  <a:pt x="569" y="236"/>
                  <a:pt x="627" y="323"/>
                </a:cubicBezTo>
                <a:cubicBezTo>
                  <a:pt x="637" y="361"/>
                  <a:pt x="636" y="402"/>
                  <a:pt x="652" y="438"/>
                </a:cubicBezTo>
                <a:cubicBezTo>
                  <a:pt x="671" y="480"/>
                  <a:pt x="714" y="509"/>
                  <a:pt x="729" y="553"/>
                </a:cubicBezTo>
                <a:cubicBezTo>
                  <a:pt x="747" y="607"/>
                  <a:pt x="734" y="581"/>
                  <a:pt x="768" y="630"/>
                </a:cubicBezTo>
                <a:cubicBezTo>
                  <a:pt x="791" y="704"/>
                  <a:pt x="761" y="636"/>
                  <a:pt x="819" y="694"/>
                </a:cubicBezTo>
                <a:cubicBezTo>
                  <a:pt x="830" y="705"/>
                  <a:pt x="833" y="722"/>
                  <a:pt x="844" y="732"/>
                </a:cubicBezTo>
                <a:cubicBezTo>
                  <a:pt x="906" y="787"/>
                  <a:pt x="960" y="796"/>
                  <a:pt x="1036" y="822"/>
                </a:cubicBezTo>
                <a:cubicBezTo>
                  <a:pt x="1070" y="833"/>
                  <a:pt x="1139" y="848"/>
                  <a:pt x="1139" y="848"/>
                </a:cubicBezTo>
                <a:cubicBezTo>
                  <a:pt x="1156" y="844"/>
                  <a:pt x="1176" y="846"/>
                  <a:pt x="1190" y="835"/>
                </a:cubicBezTo>
                <a:cubicBezTo>
                  <a:pt x="1215" y="815"/>
                  <a:pt x="1198" y="747"/>
                  <a:pt x="1190" y="732"/>
                </a:cubicBezTo>
                <a:cubicBezTo>
                  <a:pt x="1182" y="716"/>
                  <a:pt x="1163" y="708"/>
                  <a:pt x="1152" y="694"/>
                </a:cubicBezTo>
                <a:cubicBezTo>
                  <a:pt x="1133" y="670"/>
                  <a:pt x="1100" y="617"/>
                  <a:pt x="1100" y="617"/>
                </a:cubicBezTo>
                <a:cubicBezTo>
                  <a:pt x="1092" y="591"/>
                  <a:pt x="1083" y="566"/>
                  <a:pt x="1075" y="540"/>
                </a:cubicBezTo>
                <a:cubicBezTo>
                  <a:pt x="1071" y="527"/>
                  <a:pt x="1062" y="502"/>
                  <a:pt x="1062" y="502"/>
                </a:cubicBezTo>
                <a:cubicBezTo>
                  <a:pt x="1058" y="412"/>
                  <a:pt x="1064" y="321"/>
                  <a:pt x="1049" y="233"/>
                </a:cubicBezTo>
                <a:cubicBezTo>
                  <a:pt x="1046" y="218"/>
                  <a:pt x="1022" y="219"/>
                  <a:pt x="1011" y="208"/>
                </a:cubicBezTo>
                <a:cubicBezTo>
                  <a:pt x="994" y="191"/>
                  <a:pt x="982" y="131"/>
                  <a:pt x="960" y="13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13372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76920" y="304812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badi MT Condensed Light"/>
              </a:rPr>
              <a:t>Yogur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99" name=""/>
          <p:cNvSpPr/>
          <p:nvPr/>
        </p:nvSpPr>
        <p:spPr>
          <a:xfrm>
            <a:off x="1262160" y="1971720"/>
            <a:ext cx="741240" cy="831960"/>
          </a:xfrm>
          <a:custGeom>
            <a:avLst/>
            <a:gdLst/>
            <a:ahLst/>
            <a:rect l="l" t="t" r="r" b="b"/>
            <a:pathLst>
              <a:path w="467" h="524">
                <a:moveTo>
                  <a:pt x="88" y="524"/>
                </a:moveTo>
                <a:cubicBezTo>
                  <a:pt x="131" y="511"/>
                  <a:pt x="173" y="499"/>
                  <a:pt x="216" y="486"/>
                </a:cubicBezTo>
                <a:cubicBezTo>
                  <a:pt x="242" y="478"/>
                  <a:pt x="267" y="468"/>
                  <a:pt x="293" y="460"/>
                </a:cubicBezTo>
                <a:cubicBezTo>
                  <a:pt x="306" y="456"/>
                  <a:pt x="331" y="448"/>
                  <a:pt x="331" y="448"/>
                </a:cubicBezTo>
                <a:cubicBezTo>
                  <a:pt x="344" y="439"/>
                  <a:pt x="358" y="432"/>
                  <a:pt x="370" y="422"/>
                </a:cubicBezTo>
                <a:cubicBezTo>
                  <a:pt x="397" y="398"/>
                  <a:pt x="447" y="345"/>
                  <a:pt x="447" y="345"/>
                </a:cubicBezTo>
                <a:cubicBezTo>
                  <a:pt x="467" y="281"/>
                  <a:pt x="448" y="277"/>
                  <a:pt x="395" y="243"/>
                </a:cubicBezTo>
                <a:cubicBezTo>
                  <a:pt x="356" y="117"/>
                  <a:pt x="274" y="38"/>
                  <a:pt x="152" y="0"/>
                </a:cubicBezTo>
                <a:cubicBezTo>
                  <a:pt x="79" y="14"/>
                  <a:pt x="64" y="3"/>
                  <a:pt x="24" y="64"/>
                </a:cubicBezTo>
                <a:cubicBezTo>
                  <a:pt x="0" y="157"/>
                  <a:pt x="0" y="134"/>
                  <a:pt x="24" y="281"/>
                </a:cubicBezTo>
                <a:cubicBezTo>
                  <a:pt x="38" y="368"/>
                  <a:pt x="88" y="434"/>
                  <a:pt x="88" y="5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7432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426708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Light"/>
              </a:rPr>
              <a:t>Alimentos Congelados, ques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Light"/>
              <a:ea typeface="Abadi MT Condensed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876920"/>
            <a:ext cx="697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ausas de esta localiz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334120"/>
            <a:ext cx="784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afé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el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Leche, yogures, helados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el mar y con las zonas productoras de le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Alimentos Congelados, quesos:</a:t>
            </a:r>
            <a:r>
              <a:rPr b="0" lang="en-US" sz="2000" spc="-1" strike="noStrike">
                <a:solidFill>
                  <a:srgbClr val="000000"/>
                </a:solidFill>
                <a:latin typeface="Abadi MT Condensed Light"/>
              </a:rPr>
              <a:t> Proximidad con las zonas productoras de es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7:00:57Z</dcterms:created>
  <dc:creator>Joaquin Segura Tiñena</dc:creator>
  <dc:description/>
  <dc:language>en-US</dc:language>
  <cp:lastModifiedBy>Joaquin Segura Tiñena</cp:lastModifiedBy>
  <dcterms:modified xsi:type="dcterms:W3CDTF">2002-04-09T06:10:35Z</dcterms:modified>
  <cp:revision>5</cp:revision>
  <dc:subject/>
  <dc:title>Presentación de PowerPoint</dc:title>
</cp:coreProperties>
</file>